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png" ContentType="image/png"/>
  <Override PartName="/ppt/media/image10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3.jpeg" ContentType="image/jpeg"/>
  <Override PartName="/ppt/media/image12.gif" ContentType="image/gif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7.jpeg" ContentType="image/jpeg"/>
  <Override PartName="/ppt/media/image15.gif" ContentType="image/gif"/>
  <Override PartName="/ppt/media/image28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16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1.png" ContentType="image/png"/>
  <Override PartName="/ppt/media/image13.png" ContentType="image/pn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C9B-22A8-4A82-B41C-95222C21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B59-9BA0-4568-9F5A-5F5E0AB7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53D-3A4A-4AF0-AB87-F0CD8EE6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198A-C523-4BB4-B809-AB5DFF44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C06E-E5FE-4F2C-B16B-DA899855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E81D-7A20-4F50-87A3-B053C70C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4329-F3B3-4878-8D1C-804BC425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D7A0-9277-4E5D-8C37-38C77413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00E5-A329-4E6C-94DF-EEDB99B5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3B96-2B7A-4F29-A7FF-47078371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1DAA-7FD4-45B6-8882-E32251EA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CF52-33E3-4244-B8F1-2EE93D43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0993-05EF-4C86-82BF-35A8E85B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C4DC-03B6-470F-BA3B-88179F10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6590-B604-47C3-B0DC-D46F7548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734E-AAB3-40C4-B0FF-E0D96525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569F-4948-49C9-BBBE-9E1EF598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5DA18-243D-46C1-A19A-2A1F0424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B1985-EE0D-46B4-A4CF-F71F650B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1E793-20E4-4950-ADDC-BE6CA513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1BB87-79E0-4770-B10E-708A87E5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50DCA-F2EF-4A6D-9D7D-8302B084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A8E4-D005-4030-A789-6C446E19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C4ED5-774C-4999-B4B5-B3BB37AF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95A58-C7C1-456B-B7BE-B02FAA61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53351-ABF1-4D11-BA28-39CF55D2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D1682-8745-44C7-A797-C37B110F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D871C-AC84-40B5-A9AA-2AB5A310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579A9-52AB-4E38-9124-88BE4CB3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73236-DD7B-4D46-83DD-4D7DB5F4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D92CC-F0F6-48C8-A0A3-EEFA9C78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6D681-7C73-4298-A49E-E42CBFC1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A333C-40BA-4C7A-8ADF-6EC1D81B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4EF5-B1A5-45B1-B19E-A4D69527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A2DDC-D25A-4375-ABEF-0FD293FE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93AA4-6467-48DA-AC74-7F9C8ED7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5BAD5-AF61-403B-9DB9-5AF0EC68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30644-4A20-4AA3-B84D-5AAC3404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78ABA-CFCF-40A9-9C4F-F065094D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333CA-94E1-4B5D-BD3C-75A1105B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CADDD-10BE-433E-A9D9-D560D298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59FA5-9F6E-44C4-A7DA-817B40AC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2185B-1862-4E13-94C7-12B0CE03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01F2-84BC-496E-888A-3FE8CCE2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A47-E559-42DF-AEBF-165D5AFA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1DAD-F0C7-4ABE-A532-A9EDF25B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1399-654D-45B0-A4E3-B1C67E7D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FBF8-EC31-42EF-9B5D-5AED79D6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9690-5D8C-4BCB-9D1C-39B6F8C15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86BC-4D10-4B97-918C-3425193A5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D78A-2C31-4193-A823-314198AF7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26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27" descr="紙角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831C-192A-4161-819C-948A59B54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9.png"/><Relationship Id="rId3" Type="http://schemas.openxmlformats.org/officeDocument/2006/relationships/image" Target="../media/image3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0" descr="shitou"/>
          <p:cNvPicPr/>
          <p:nvPr/>
        </p:nvPicPr>
        <p:blipFill>
          <a:blip r:embed="rId1"/>
          <a:stretch/>
        </p:blipFill>
        <p:spPr>
          <a:xfrm>
            <a:off x="4067280" y="2781360"/>
            <a:ext cx="4537080" cy="4076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shuidi1"/>
          <p:cNvPicPr/>
          <p:nvPr/>
        </p:nvPicPr>
        <p:blipFill>
          <a:blip r:embed="rId2"/>
          <a:stretch/>
        </p:blipFill>
        <p:spPr>
          <a:xfrm>
            <a:off x="2124000" y="2205000"/>
            <a:ext cx="347760" cy="614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250920" y="765000"/>
            <a:ext cx="860112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滴水穿石的启示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李时珍"/>
          <p:cNvPicPr/>
          <p:nvPr/>
        </p:nvPicPr>
        <p:blipFill>
          <a:blip r:embed="rId2"/>
          <a:stretch/>
        </p:blipFill>
        <p:spPr>
          <a:xfrm>
            <a:off x="179280" y="620640"/>
            <a:ext cx="3997440" cy="5688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4356000" y="98100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明代著名医药学家李时珍，从小立志学医。他翻山越岭，走遍了大半个中国，访名医，尝药草，经过二十几年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不懈努力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终于写成了药学巨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本草纲目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763640" y="63388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3564000" y="6338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5651640" y="633888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3419640" y="6381720"/>
            <a:ext cx="79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5435640" y="630864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547640" y="6237360"/>
            <a:ext cx="936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990720" y="6400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7634520" cy="57326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"/>
          <p:cNvSpPr/>
          <p:nvPr/>
        </p:nvSpPr>
        <p:spPr>
          <a:xfrm>
            <a:off x="395280" y="126828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目标专一，持之以恒，所以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如果我们也能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那样，还有什么事情做不成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211640" y="3573360"/>
            <a:ext cx="3809880" cy="270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4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7634520" cy="57326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"/>
          <p:cNvSpPr/>
          <p:nvPr/>
        </p:nvSpPr>
        <p:spPr>
          <a:xfrm>
            <a:off x="250920" y="692280"/>
            <a:ext cx="6933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李时珍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目标专一，持之以恒，所以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写成了药学巨著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本草纲目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如果我们也能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李时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那样，还有什么事情做不成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505320" y="6324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716360" y="3933720"/>
            <a:ext cx="3810240" cy="270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4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爱迪生"/>
          <p:cNvPicPr/>
          <p:nvPr/>
        </p:nvPicPr>
        <p:blipFill>
          <a:blip r:embed="rId2"/>
          <a:stretch/>
        </p:blipFill>
        <p:spPr>
          <a:xfrm>
            <a:off x="179280" y="620640"/>
            <a:ext cx="3889440" cy="5616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4140360" y="76500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美国发明家爱迪生，没有受过正规教育，幼年就自谋生计，当小贩、报务员等。但他迷恋电学实验研究，毕生孜孜不倦，竟拥有白炽灯、留声机、碳粒电话筒、电影放映机等一千多项发明专利权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195640" y="63388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635280" y="6338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364000" y="63388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1979640" y="6308640"/>
            <a:ext cx="79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5219640" y="6308640"/>
            <a:ext cx="792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3492360" y="6165720"/>
            <a:ext cx="790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爱迪生"/>
          <p:cNvPicPr/>
          <p:nvPr/>
        </p:nvPicPr>
        <p:blipFill>
          <a:blip r:embed="rId2"/>
          <a:stretch/>
        </p:blipFill>
        <p:spPr>
          <a:xfrm>
            <a:off x="179280" y="620640"/>
            <a:ext cx="3889440" cy="56167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4140360" y="76500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美国发明家爱迪生，没有受过正规教育，幼年就自谋生计，当小贩、报务员等。但他迷恋电学实验研究，毕生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孜孜不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竟拥有白炽灯、留声机、碳粒电话筒、电影放映机等一千多项发明专利权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320040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7634520" cy="57326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2"/>
          <p:cNvSpPr/>
          <p:nvPr/>
        </p:nvSpPr>
        <p:spPr>
          <a:xfrm>
            <a:off x="395280" y="148428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目标专一，持之以恒，所以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如果我们也能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那样，还有什么事情做不成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211640" y="3645000"/>
            <a:ext cx="3809880" cy="277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4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7634520" cy="573264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2"/>
          <p:cNvSpPr/>
          <p:nvPr/>
        </p:nvSpPr>
        <p:spPr>
          <a:xfrm>
            <a:off x="250920" y="83664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爱迪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目标专一，持之以恒，所以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有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一千多项发明专利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如果我们也能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爱迪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那样，还有什么事情做不成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581280" y="6400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4211640" y="3573360"/>
            <a:ext cx="3809880" cy="270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4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齐白石"/>
          <p:cNvPicPr/>
          <p:nvPr/>
        </p:nvPicPr>
        <p:blipFill>
          <a:blip r:embed="rId2"/>
          <a:stretch/>
        </p:blipFill>
        <p:spPr>
          <a:xfrm>
            <a:off x="179280" y="620640"/>
            <a:ext cx="3745080" cy="5688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3995640" y="836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现代著名书画家齐白石，在他数十年的艺术生涯中，始终没有停止过挥毫作画。他的画室里，挂着他用以自勉的条幅：“不教一日闲过。”就是到了晚年，也仍然坚持每天作画三幅。正是因为白石老人坚持不懈地创作，他的技艺才达到炉火纯青的境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763640" y="6338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635280" y="63388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5724360" y="63388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619280" y="6381720"/>
            <a:ext cx="72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3492360" y="6308640"/>
            <a:ext cx="648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5580000" y="6381720"/>
            <a:ext cx="71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5508720" y="6308640"/>
            <a:ext cx="934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齐白石"/>
          <p:cNvPicPr/>
          <p:nvPr/>
        </p:nvPicPr>
        <p:blipFill>
          <a:blip r:embed="rId2"/>
          <a:stretch/>
        </p:blipFill>
        <p:spPr>
          <a:xfrm>
            <a:off x="179280" y="620640"/>
            <a:ext cx="3745080" cy="56880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5"/>
          <p:cNvSpPr/>
          <p:nvPr/>
        </p:nvSpPr>
        <p:spPr>
          <a:xfrm>
            <a:off x="3995640" y="83664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现代著名书画家齐白石，在他数十年的艺术生涯中，始终没有停止过挥毫作画。他的画室里，挂着他用以自勉的条幅：“不教一日闲过。”就是到了晚年，也仍然坚持每天作画三幅。正是因为白石老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坚持不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地创作，他的技艺才达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炉火纯青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的境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5724360" y="6338880"/>
            <a:ext cx="5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3505320" y="6400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7634160" cy="5718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himes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0" y="-119160"/>
            <a:ext cx="4876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在安徽广德太极洞内，有一块状如卧兔的石头，石头正中有一个光滑圆润的小洞。这个小洞是怎么形成的呢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原来在这块石头的上方，有水滴接连不断地从岩缝中滴落下来，而且总是滴在同一个地方。几百年过去了，几千年、几万年过去了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楷体_GB2312"/>
              </a:rPr>
              <a:t>水滴锲而不舍，日雕月琢，终于滴穿了石块，成为今天太极洞内的一大奇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swallownet20057121049505147_15"/>
          <p:cNvPicPr/>
          <p:nvPr/>
        </p:nvPicPr>
        <p:blipFill>
          <a:blip r:embed="rId2"/>
          <a:stretch/>
        </p:blipFill>
        <p:spPr>
          <a:xfrm>
            <a:off x="5181480" y="0"/>
            <a:ext cx="39625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1.mp3" descr=""/>
          <p:cNvPicPr/>
          <p:nvPr/>
        </p:nvPicPr>
        <p:blipFill>
          <a:blip r:embed="rId3"/>
          <a:stretch/>
        </p:blipFill>
        <p:spPr>
          <a:xfrm>
            <a:off x="80773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7634160" cy="5790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himes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47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7489800" cy="5616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5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763272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himes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48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7634160" cy="6165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  <p:sndAc>
      <p:stSnd>
        <p:snd r:embed="rId3" name="chimes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6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37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7416720" cy="5877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himes.wav"/>
      </p:stSnd>
    </p:sndAc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6" presetSubtype="16">
                                  <p:stCondLst>
                                    <p:cond delay="4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6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7561440" cy="5616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himes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37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7561080" cy="554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himes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8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7561080" cy="5661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himes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8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7634520" cy="57326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2"/>
          <p:cNvSpPr/>
          <p:nvPr/>
        </p:nvSpPr>
        <p:spPr>
          <a:xfrm>
            <a:off x="395280" y="126828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目标专一，持之以恒，所以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如果我们也能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那样，还有什么事情做不成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4356000" y="3645000"/>
            <a:ext cx="3810240" cy="270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4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7634520" cy="573264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2"/>
          <p:cNvSpPr/>
          <p:nvPr/>
        </p:nvSpPr>
        <p:spPr>
          <a:xfrm>
            <a:off x="250920" y="620640"/>
            <a:ext cx="6933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齐白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目标专一，持之以恒，所以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他的技艺才达到炉火纯青的境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如果我们也能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齐白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那样，还有什么事情做不成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3352680" y="6324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4643280" y="3933720"/>
            <a:ext cx="3810240" cy="270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026" descr="swallownet20057121049505147_15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27"/>
          <p:cNvSpPr/>
          <p:nvPr/>
        </p:nvSpPr>
        <p:spPr>
          <a:xfrm>
            <a:off x="990720" y="228600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目标专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持之以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1.mp3" descr=""/>
          <p:cNvPicPr/>
          <p:nvPr/>
        </p:nvPicPr>
        <p:blipFill>
          <a:blip r:embed="rId2"/>
          <a:stretch/>
        </p:blipFill>
        <p:spPr>
          <a:xfrm>
            <a:off x="81532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28"/>
          <p:cNvSpPr/>
          <p:nvPr/>
        </p:nvSpPr>
        <p:spPr>
          <a:xfrm>
            <a:off x="1476360" y="2067480"/>
            <a:ext cx="73627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看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古今中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所有成就事业的人，在前进的道路上，不都是靠着这种“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滴水穿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的精神，才“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滴穿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一块块“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顽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，最终取得成功的吗？</a:t>
            </a: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7634520" cy="57326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2"/>
          <p:cNvSpPr/>
          <p:nvPr/>
        </p:nvSpPr>
        <p:spPr>
          <a:xfrm>
            <a:off x="395280" y="836640"/>
            <a:ext cx="6934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看，古今中外所有成就事业的人，在前进的道路上，不都是靠着这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(       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精神，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(             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最终取得成功的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7634520" cy="57326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4"/>
          <p:cNvSpPr/>
          <p:nvPr/>
        </p:nvSpPr>
        <p:spPr>
          <a:xfrm>
            <a:off x="2050920" y="242100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汉鼎繁颜体"/>
              </a:rPr>
              <a:t>我来介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7" descr="u=3353068147,2700992188&amp;gp=2"/>
          <p:cNvPicPr/>
          <p:nvPr/>
        </p:nvPicPr>
        <p:blipFill>
          <a:blip r:embed="rId2"/>
          <a:stretch/>
        </p:blipFill>
        <p:spPr>
          <a:xfrm>
            <a:off x="324000" y="692280"/>
            <a:ext cx="3743280" cy="554508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4"/>
          <p:cNvSpPr/>
          <p:nvPr/>
        </p:nvSpPr>
        <p:spPr>
          <a:xfrm>
            <a:off x="3708360" y="269964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贝多芬从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岁开始听力逐渐减退，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岁双耳全聋。这对一位作曲家来说是一个致命的打击。但他没有放弃对音乐的追求，他的目标只有一个：创造出最美的音乐。他说过一句有名的话：呃住命运的喉咙，绝不能向它屈服。二十多年来，他一直在无声的世界里谱写最美的乐章。持之以恒的努力使他取得了巨大的成功。他的曲子在世界乐坛掀起狂澜，他的作品成为人类音乐宝库中光芒万丈的珍品。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5" descr="http://www.zgedu.net/units_1/updatePhoto/p20050719104928.jpg"/>
          <p:cNvPicPr/>
          <p:nvPr/>
        </p:nvPicPr>
        <p:blipFill>
          <a:blip r:embed="rId2"/>
          <a:stretch/>
        </p:blipFill>
        <p:spPr>
          <a:xfrm>
            <a:off x="179280" y="692280"/>
            <a:ext cx="7632720" cy="55036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6"/>
          <p:cNvSpPr/>
          <p:nvPr/>
        </p:nvSpPr>
        <p:spPr>
          <a:xfrm>
            <a:off x="2627280" y="12682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挖井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u=3353068147,2700992188&amp;gp=2"/>
          <p:cNvPicPr/>
          <p:nvPr/>
        </p:nvPicPr>
        <p:blipFill>
          <a:blip r:embed="rId2"/>
          <a:stretch/>
        </p:blipFill>
        <p:spPr>
          <a:xfrm>
            <a:off x="250920" y="620640"/>
            <a:ext cx="4176720" cy="5616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http://www.zgedu.net/units_1/updatePhoto/p20050719104928.jpg"/>
          <p:cNvPicPr/>
          <p:nvPr/>
        </p:nvPicPr>
        <p:blipFill>
          <a:blip r:embed="rId3"/>
          <a:stretch/>
        </p:blipFill>
        <p:spPr>
          <a:xfrm>
            <a:off x="4500720" y="692280"/>
            <a:ext cx="3311280" cy="5576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4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4659120" cy="5616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076720" y="170028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居里夫人经过无数次实验，发现了放射性元素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3772080" cy="56167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995640" y="1773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瑞典化学家诺贝尔经过多次危险实验发明了炸药。并用自己的大部分遗产设立了诺贝尔奖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4464000" cy="55450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4932360" y="206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爱迪生经过无数次实验，发明了电灯泡、留声机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5" descr="swallownet20057121049505147_1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1295280" y="1828800"/>
            <a:ext cx="698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Arial"/>
                <a:ea typeface="楷体_GB2312"/>
              </a:rPr>
              <a:t>目标专一而不三心二意，持之以恒而不半途而废，就一定能够实现我们美好的理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2362320" y="68580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滴水穿石的启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1.mp3" descr=""/>
          <p:cNvPicPr/>
          <p:nvPr/>
        </p:nvPicPr>
        <p:blipFill>
          <a:blip r:embed="rId3"/>
          <a:stretch/>
        </p:blipFill>
        <p:spPr>
          <a:xfrm>
            <a:off x="74674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4" name="chimes.wav"/>
      </p:stSnd>
    </p:sndAc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1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swallownet20057121049505147_1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2"/>
          <p:cNvSpPr/>
          <p:nvPr/>
        </p:nvSpPr>
        <p:spPr>
          <a:xfrm>
            <a:off x="838080" y="457200"/>
            <a:ext cx="7215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原来在这块石头的上方，有水滴接连不断地从岩缝中滴落下来，而且总是滴在同一个地方。几百年过去了，几千年、几万年过去了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  <a:ea typeface="楷体_GB2312"/>
              </a:rPr>
              <a:t>……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楷体_GB2312"/>
              </a:rPr>
              <a:t>水滴锲而不舍，日雕月琢，终于滴穿了石块，成为今天太极洞内的一大奇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1.mp3" descr=""/>
          <p:cNvPicPr/>
          <p:nvPr/>
        </p:nvPicPr>
        <p:blipFill>
          <a:blip r:embed="rId3"/>
          <a:stretch/>
        </p:blipFill>
        <p:spPr>
          <a:xfrm>
            <a:off x="77724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4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Arial"/>
                <a:ea typeface="楷体_GB2312"/>
              </a:rPr>
              <a:t>作业超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7956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写一篇读后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搜集有关于目标专一、持之以恒方面的名人名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搜集一个事例并写下来，说明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滴水穿石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道理，要写出自己的真切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采访身边的一位成功人士，比如：企业家、优秀教师、艺术家、先进劳动者等，然后写一篇日记，说明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滴水穿石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PM_0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WordArt 3"/>
          <p:cNvSpPr txBox="1"/>
          <p:nvPr/>
        </p:nvSpPr>
        <p:spPr>
          <a:xfrm>
            <a:off x="2438280" y="2362320"/>
            <a:ext cx="3048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指导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302" name="1.mp3" descr=""/>
          <p:cNvPicPr/>
          <p:nvPr/>
        </p:nvPicPr>
        <p:blipFill>
          <a:blip r:embed="rId2"/>
          <a:stretch/>
        </p:blipFill>
        <p:spPr>
          <a:xfrm>
            <a:off x="7848720" y="5791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7812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4" name="chimes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303055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swallownet20057121049505147_1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1066680" y="533520"/>
            <a:ext cx="706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原来在这块石头的上方，有水滴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接连不断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地从岩缝中滴落下来，而且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总是滴在同一个地方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几百年过去了，几千年、几万年过去了</a:t>
            </a:r>
            <a:r>
              <a:rPr b="1" lang="en-US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……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水滴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楷体_GB2312"/>
              </a:rPr>
              <a:t>锲而不舍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楷体_GB2312"/>
              </a:rPr>
              <a:t>日雕月琢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楷体_GB2312"/>
              </a:rPr>
              <a:t>，终于滴穿了石块，成为今天太极洞内的一大奇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1.mp3" descr=""/>
          <p:cNvPicPr/>
          <p:nvPr/>
        </p:nvPicPr>
        <p:blipFill>
          <a:blip r:embed="rId3"/>
          <a:stretch/>
        </p:blipFill>
        <p:spPr>
          <a:xfrm>
            <a:off x="76201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4" name="chim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-27000" y="1405080"/>
            <a:ext cx="6875640" cy="360"/>
          </a:xfrm>
          <a:prstGeom prst="rect">
            <a:avLst/>
          </a:prstGeom>
          <a:solidFill>
            <a:srgbClr val="eff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9360" y="1405080"/>
            <a:ext cx="6875640" cy="7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6"/>
          <p:cNvGrpSpPr/>
          <p:nvPr/>
        </p:nvGrpSpPr>
        <p:grpSpPr>
          <a:xfrm>
            <a:off x="-27000" y="1368360"/>
            <a:ext cx="4645080" cy="145800"/>
            <a:chOff x="-27000" y="1368360"/>
            <a:chExt cx="4645080" cy="145800"/>
          </a:xfrm>
        </p:grpSpPr>
        <p:sp>
          <p:nvSpPr>
            <p:cNvPr id="185" name="Rectangle 15"/>
            <p:cNvSpPr/>
            <p:nvPr/>
          </p:nvSpPr>
          <p:spPr>
            <a:xfrm>
              <a:off x="-27000" y="1368360"/>
              <a:ext cx="4645080" cy="14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"/>
            <p:cNvGrpSpPr/>
            <p:nvPr/>
          </p:nvGrpSpPr>
          <p:grpSpPr>
            <a:xfrm>
              <a:off x="-27000" y="1368360"/>
              <a:ext cx="4645080" cy="145800"/>
              <a:chOff x="-27000" y="1368360"/>
              <a:chExt cx="4645080" cy="145800"/>
            </a:xfrm>
          </p:grpSpPr>
          <p:grpSp>
            <p:nvGrpSpPr>
              <p:cNvPr id="187" name="Group 12"/>
              <p:cNvGrpSpPr/>
              <p:nvPr/>
            </p:nvGrpSpPr>
            <p:grpSpPr>
              <a:xfrm>
                <a:off x="9360" y="1404720"/>
                <a:ext cx="4572000" cy="360"/>
                <a:chOff x="9360" y="1404720"/>
                <a:chExt cx="4572000" cy="360"/>
              </a:xfrm>
            </p:grpSpPr>
            <p:sp>
              <p:nvSpPr>
                <p:cNvPr id="188" name="Rectangle 4"/>
                <p:cNvSpPr/>
                <p:nvPr/>
              </p:nvSpPr>
              <p:spPr>
                <a:xfrm>
                  <a:off x="9360" y="1404720"/>
                  <a:ext cx="45720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5"/>
                <p:cNvSpPr/>
                <p:nvPr/>
              </p:nvSpPr>
              <p:spPr>
                <a:xfrm>
                  <a:off x="9360" y="1404720"/>
                  <a:ext cx="45720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Rectangle 13"/>
              <p:cNvSpPr/>
              <p:nvPr/>
            </p:nvSpPr>
            <p:spPr>
              <a:xfrm>
                <a:off x="-27000" y="1368360"/>
                <a:ext cx="4645080" cy="14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1" name="Picture 8" descr="动态下雨风景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pic>
        <p:nvPicPr>
          <p:cNvPr id="192" name="下雨.mp3" descr=""/>
          <p:cNvPicPr/>
          <p:nvPr/>
        </p:nvPicPr>
        <p:blipFill>
          <a:blip r:embed="rId2"/>
          <a:stretch/>
        </p:blipFill>
        <p:spPr>
          <a:xfrm>
            <a:off x="80010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26"/>
          <p:cNvSpPr/>
          <p:nvPr/>
        </p:nvSpPr>
        <p:spPr>
          <a:xfrm>
            <a:off x="-27000" y="1405080"/>
            <a:ext cx="6875640" cy="360"/>
          </a:xfrm>
          <a:prstGeom prst="rect">
            <a:avLst/>
          </a:prstGeom>
          <a:solidFill>
            <a:srgbClr val="eff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27"/>
          <p:cNvSpPr/>
          <p:nvPr/>
        </p:nvSpPr>
        <p:spPr>
          <a:xfrm>
            <a:off x="9360" y="1405080"/>
            <a:ext cx="6875640" cy="7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028"/>
          <p:cNvGrpSpPr/>
          <p:nvPr/>
        </p:nvGrpSpPr>
        <p:grpSpPr>
          <a:xfrm>
            <a:off x="-27000" y="1368360"/>
            <a:ext cx="4645080" cy="145800"/>
            <a:chOff x="-27000" y="1368360"/>
            <a:chExt cx="4645080" cy="145800"/>
          </a:xfrm>
        </p:grpSpPr>
        <p:sp>
          <p:nvSpPr>
            <p:cNvPr id="196" name="Rectangle 1029"/>
            <p:cNvSpPr/>
            <p:nvPr/>
          </p:nvSpPr>
          <p:spPr>
            <a:xfrm>
              <a:off x="-27000" y="1368360"/>
              <a:ext cx="4645080" cy="14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1030"/>
            <p:cNvGrpSpPr/>
            <p:nvPr/>
          </p:nvGrpSpPr>
          <p:grpSpPr>
            <a:xfrm>
              <a:off x="-27000" y="1368360"/>
              <a:ext cx="4645080" cy="145800"/>
              <a:chOff x="-27000" y="1368360"/>
              <a:chExt cx="4645080" cy="145800"/>
            </a:xfrm>
          </p:grpSpPr>
          <p:grpSp>
            <p:nvGrpSpPr>
              <p:cNvPr id="198" name="Group 1031"/>
              <p:cNvGrpSpPr/>
              <p:nvPr/>
            </p:nvGrpSpPr>
            <p:grpSpPr>
              <a:xfrm>
                <a:off x="9360" y="1404720"/>
                <a:ext cx="4572000" cy="360"/>
                <a:chOff x="9360" y="1404720"/>
                <a:chExt cx="4572000" cy="360"/>
              </a:xfrm>
            </p:grpSpPr>
            <p:sp>
              <p:nvSpPr>
                <p:cNvPr id="199" name="Rectangle 1032"/>
                <p:cNvSpPr/>
                <p:nvPr/>
              </p:nvSpPr>
              <p:spPr>
                <a:xfrm>
                  <a:off x="9360" y="1404720"/>
                  <a:ext cx="45720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Rectangle 1033"/>
                <p:cNvSpPr/>
                <p:nvPr/>
              </p:nvSpPr>
              <p:spPr>
                <a:xfrm>
                  <a:off x="9360" y="1404720"/>
                  <a:ext cx="45720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Rectangle 1034"/>
              <p:cNvSpPr/>
              <p:nvPr/>
            </p:nvSpPr>
            <p:spPr>
              <a:xfrm>
                <a:off x="-27000" y="1368360"/>
                <a:ext cx="4645080" cy="145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2" name="Picture 1035" descr="动态下雨风景图片"/>
          <p:cNvPicPr/>
          <p:nvPr/>
        </p:nvPicPr>
        <p:blipFill>
          <a:blip r:embed="rId1"/>
          <a:stretch/>
        </p:blipFill>
        <p:spPr>
          <a:xfrm>
            <a:off x="0" y="0"/>
            <a:ext cx="4876920" cy="68817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036"/>
          <p:cNvSpPr/>
          <p:nvPr/>
        </p:nvSpPr>
        <p:spPr>
          <a:xfrm>
            <a:off x="5029200" y="10666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什么原因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37"/>
          <p:cNvSpPr/>
          <p:nvPr/>
        </p:nvSpPr>
        <p:spPr>
          <a:xfrm>
            <a:off x="5334120" y="2209680"/>
            <a:ext cx="350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因为它没有专一的目标，也不能持之以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下雨.mp3" descr=""/>
          <p:cNvPicPr/>
          <p:nvPr/>
        </p:nvPicPr>
        <p:blipFill>
          <a:blip r:embed="rId2"/>
          <a:stretch/>
        </p:blipFill>
        <p:spPr>
          <a:xfrm>
            <a:off x="5335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4"/>
          <p:cNvSpPr/>
          <p:nvPr/>
        </p:nvSpPr>
        <p:spPr>
          <a:xfrm>
            <a:off x="611280" y="1671480"/>
            <a:ext cx="590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水滴的力量是微不足道的，可是它目标专一、持之以恒，所以能把石块滴穿。</a:t>
            </a:r>
            <a:r>
              <a:rPr b="0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如果我们也能像水滴</a:t>
            </a: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那样</a:t>
            </a:r>
            <a:r>
              <a:rPr b="0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还有什么事情做不成呢？</a:t>
            </a:r>
            <a:r>
              <a:rPr b="0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00200" y="30481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5334120" y="2143080"/>
            <a:ext cx="3809880" cy="4714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732720" y="40464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5" name="chimes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80880" y="549360"/>
            <a:ext cx="81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果我们也能像水滴那样，还有什么事情做不成呢？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250920" y="386064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如果我们也能像水滴那样，什么事情都能做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43280" y="2060640"/>
            <a:ext cx="2089080" cy="1871640"/>
          </a:xfrm>
          <a:prstGeom prst="downArrowCallout">
            <a:avLst>
              <a:gd name="adj1" fmla="val 27907"/>
              <a:gd name="adj2" fmla="val 27904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陈述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4:01:18Z</dcterms:created>
  <dc:creator>walkinnet</dc:creator>
  <dc:description/>
  <dc:language>en-US</dc:language>
  <cp:lastModifiedBy>雨林木风</cp:lastModifiedBy>
  <dcterms:modified xsi:type="dcterms:W3CDTF">2011-11-26T13:40:06Z</dcterms:modified>
  <cp:revision>127</cp:revision>
  <dc:subject/>
  <dc:title>幻灯片 1</dc:title>
</cp:coreProperties>
</file>