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1A94-88E6-412C-BD45-C5DC08F65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1886-E4E9-4902-BEDC-F9C234573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0C8C-3A7E-4C71-9DDF-8F7998F97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4E6A-FD54-43CA-BDD4-995C225D6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2D14-A23C-4A43-AEFC-2EDB1C9A4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448D-9F2B-4E40-8846-C0BFA5836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98EA-01D4-4798-B0FD-C92918CE8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99B1-F72F-41D0-BA10-05C2ADB9B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CB2A-0BDC-463A-80EE-5DFF9ABD1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638C-604E-4D61-A561-DEF06BBDC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EDC8-93DD-41E3-A0A9-EE4FEA84C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796A-C71F-4F1B-8036-298BBB1AA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1DF20-29A0-4788-82B3-5D8A05C0ECA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Calibri"/>
              </a:rPr>
              <a:t>人物传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0" y="115920"/>
            <a:ext cx="9144000" cy="67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2 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、类比（对比）的作用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Calibri"/>
              </a:rPr>
              <a:t>         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Calibri"/>
              </a:rPr>
              <a:t>           </a:t>
            </a:r>
            <a:r>
              <a:rPr b="1" lang="en-US" sz="2200" spc="-1" strike="noStrike">
                <a:solidFill>
                  <a:srgbClr val="ff0000"/>
                </a:solidFill>
                <a:latin typeface="Calibri"/>
              </a:rPr>
              <a:t>更好的了解传主，烘托人物形象，使人物形象更加有个性更加鲜明</a:t>
            </a:r>
            <a:r>
              <a:rPr b="0" lang="en-US" sz="2200" spc="-1" strike="noStrike">
                <a:solidFill>
                  <a:srgbClr val="ff0000"/>
                </a:solidFill>
                <a:latin typeface="Calibri"/>
              </a:rPr>
              <a:t>。</a:t>
            </a: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33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Calibri"/>
              </a:rPr>
              <a:t>     </a:t>
            </a:r>
            <a:r>
              <a:rPr b="1" lang="zh-CN" sz="2200" spc="-1" strike="noStrike">
                <a:solidFill>
                  <a:srgbClr val="ff0000"/>
                </a:solidFill>
                <a:latin typeface="Calibri"/>
              </a:rPr>
              <a:t>例</a:t>
            </a:r>
            <a:r>
              <a:rPr b="1" lang="en-US" sz="2200" spc="-1" strike="noStrike">
                <a:solidFill>
                  <a:srgbClr val="ff0000"/>
                </a:solidFill>
                <a:latin typeface="Calibri"/>
              </a:rPr>
              <a:t>1</a:t>
            </a:r>
            <a:r>
              <a:rPr b="1" lang="zh-CN" sz="2200" spc="-1" strike="noStrike">
                <a:solidFill>
                  <a:srgbClr val="ff0000"/>
                </a:solidFill>
                <a:latin typeface="Calibri"/>
              </a:rPr>
              <a:t>、</a:t>
            </a: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文章的传主是林斤澜，作者为什么用大量篇幅写汪曾祺和张爱玲两位作家？（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分）</a:t>
            </a:r>
            <a:br>
              <a:rPr sz="2200"/>
            </a:br>
            <a:br>
              <a:rPr sz="2200"/>
            </a:br>
            <a:r>
              <a:rPr b="1" lang="zh-CN" sz="2200" spc="-1" strike="noStrike">
                <a:solidFill>
                  <a:srgbClr val="ff0000"/>
                </a:solidFill>
                <a:latin typeface="Calibri"/>
              </a:rPr>
              <a:t>例</a:t>
            </a:r>
            <a:r>
              <a:rPr b="1" lang="en-US" sz="22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1" lang="zh-CN" sz="2200" spc="-1" strike="noStrike">
                <a:solidFill>
                  <a:srgbClr val="ff0000"/>
                </a:solidFill>
                <a:latin typeface="Calibri"/>
              </a:rPr>
              <a:t>、</a:t>
            </a: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2012</a:t>
            </a: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，广二模）文中多次将嵇康与诸葛亮相提并论，这样写有什么作用？（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分）</a:t>
            </a:r>
            <a:br>
              <a:rPr sz="2200"/>
            </a:b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答：（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）以读者熟知的诸葛亮作比（</a:t>
            </a:r>
            <a:r>
              <a:rPr b="1" lang="zh-CN" sz="2200" spc="-1" strike="noStrike">
                <a:solidFill>
                  <a:srgbClr val="ff0000"/>
                </a:solidFill>
                <a:latin typeface="Calibri"/>
              </a:rPr>
              <a:t>类比</a:t>
            </a: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），有助于读者更好地了解嵇康其人；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）表明嵇康也像诸葛亮一样优秀，但命运不济；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）表达了对嵇康的敬佩和对其不幸命运的惋惜之情。</a:t>
            </a:r>
            <a:br>
              <a:rPr sz="2200"/>
            </a:b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［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分。类比及作用，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分；优秀和命运对比，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分；作者感情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分。意思对即可。］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179280" y="260280"/>
            <a:ext cx="896472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3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、细节描写的作用——对塑造人物形象的作用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 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200"/>
            </a:br>
            <a:br>
              <a:rPr sz="2200"/>
            </a:b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）突出人物的性格，使人物个性丰满、鲜明。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）展现传主的精神品质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）烘托人物的心情，呈现传主的内心世界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）深化主题，有力地表达中心。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）表现真实性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增强可读性和感染力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   【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s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】推动故事情节的发展。（小说适用）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  补充：人物描写的方法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4.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记叙顺序的作用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宋体"/>
              </a:rPr>
              <a:t> 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①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顺叙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按事情发展先后顺序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 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  叙事有头有尾，条理清晰，读起来脉络清楚、印象深刻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②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倒叙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先写结果，再交待前面发生的事）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文章首先叙述了……事，然后再叙述事情发生的前因后果。与结尾形成呼应，使文章结构上浑然一体；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2)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造成悬念、吸引读者，避免叙述的平板单调，增强文章的生动性，使文章引人入胜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③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插叙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叙事时中断线索，插入相关的另一件事）作用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、文章中途交代了……（人，事），表现了……（人  中心）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、与上文相照应；为下文写……作铺垫。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、效果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这样写使中心更加突出，文章内容更加充实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使……的形象更加鲜明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使结构更严谨。更加充实，更好的突出人物形象，深化主题。</a:t>
            </a:r>
            <a:br>
              <a:rPr sz="2400"/>
            </a:br>
            <a:br>
              <a:rPr sz="10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④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补叙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文章有时根据内容的需要，要对前面所写的人或事作一些简短的补充交待，补叙大都无情节，前后不必有什么过渡的话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补充说明的作用，使情节发展更为合理，结构更加严谨，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内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5. 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议论性文字的作用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、高度概括传主的性格品质、精神风貌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、表明坐着的情感倾向，价值取向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、提示警醒读者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 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三、如何体现传记的真实性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08000" y="1052640"/>
            <a:ext cx="90360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、引用（传主说的话、书信、作品、日记；权威人士、亲属、他人的介绍的评价）</a:t>
            </a:r>
            <a:br>
              <a:rPr sz="2200"/>
            </a:b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、写传主的亲身经历，材料详实，能写反映人物思想风貌的本质特征的典型事件</a:t>
            </a:r>
            <a:br>
              <a:rPr sz="2200"/>
            </a:b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、有细节描写（心理、外貌、生活习性）</a:t>
            </a:r>
            <a:br>
              <a:rPr sz="2200"/>
            </a:b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、心理描写（情感）</a:t>
            </a:r>
            <a:br>
              <a:rPr sz="2200"/>
            </a:b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交代作者与传主的关系</a:t>
            </a:r>
            <a:br>
              <a:rPr sz="2200"/>
            </a:b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、用语朴素，不带主观情感，能对人物作出公正客观的评价</a:t>
            </a:r>
            <a:br>
              <a:rPr sz="2200"/>
            </a:br>
            <a:br>
              <a:rPr sz="2200"/>
            </a:b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例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．传记写作要求具有真实性，本文是怎样体现这一传记文学特点的？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分）</a:t>
            </a:r>
            <a:br>
              <a:rPr sz="2200"/>
            </a:br>
            <a:br>
              <a:rPr sz="2200"/>
            </a:b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【了解文本的文体特征】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  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分）①引用亲友的回忆与评价，增强真实性。②引用传主的著作。③写传主真实的经历。（答出一点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分，答出两点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分，答出三点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分）</a:t>
            </a:r>
            <a:br>
              <a:rPr sz="2200"/>
            </a:b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Calibri"/>
              </a:rPr>
              <a:t>四、写作意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Calibri"/>
              </a:rPr>
              <a:t>传记（人物通讯）的写作意图</a:t>
            </a:r>
            <a:br>
              <a:rPr sz="2700"/>
            </a:br>
            <a:br>
              <a:rPr sz="2700"/>
            </a:br>
            <a:r>
              <a:rPr b="1" lang="zh-CN" sz="27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2700" spc="-1" strike="noStrike">
                <a:solidFill>
                  <a:srgbClr val="000000"/>
                </a:solidFill>
                <a:latin typeface="Calibri"/>
              </a:rPr>
              <a:t>）指出传主个性特征（或人格魅力），表达对传主的看法与评价。</a:t>
            </a:r>
            <a:br>
              <a:rPr sz="2700"/>
            </a:br>
            <a:br>
              <a:rPr sz="2700"/>
            </a:br>
            <a:r>
              <a:rPr b="1" lang="zh-CN" sz="27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zh-CN" sz="2700" spc="-1" strike="noStrike">
                <a:solidFill>
                  <a:srgbClr val="000000"/>
                </a:solidFill>
                <a:latin typeface="Calibri"/>
              </a:rPr>
              <a:t>）分析典型意义。并非个别，而是一个代表和典型。</a:t>
            </a:r>
            <a:br>
              <a:rPr sz="2700"/>
            </a:br>
            <a:br>
              <a:rPr sz="2700"/>
            </a:br>
            <a:r>
              <a:rPr b="1" lang="zh-CN" sz="27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zh-CN" sz="2700" spc="-1" strike="noStrike">
                <a:solidFill>
                  <a:srgbClr val="000000"/>
                </a:solidFill>
                <a:latin typeface="Calibri"/>
              </a:rPr>
              <a:t>）历史意义。（当时）</a:t>
            </a:r>
            <a:br>
              <a:rPr sz="2700"/>
            </a:br>
            <a:br>
              <a:rPr sz="2700"/>
            </a:br>
            <a:r>
              <a:rPr b="1" lang="zh-CN" sz="27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1" lang="zh-CN" sz="2700" spc="-1" strike="noStrike">
                <a:solidFill>
                  <a:srgbClr val="000000"/>
                </a:solidFill>
                <a:latin typeface="Calibri"/>
              </a:rPr>
              <a:t>）教育意义。（启示）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250560" y="260280"/>
            <a:ext cx="878508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例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：（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2010</a:t>
            </a: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，广东）作者这样叙写黄侃的</a:t>
            </a:r>
            <a:r>
              <a:rPr b="1" lang="zh-CN" sz="3000" spc="-1" strike="noStrike">
                <a:solidFill>
                  <a:srgbClr val="ff0000"/>
                </a:solidFill>
                <a:latin typeface="Calibri"/>
              </a:rPr>
              <a:t>写作意图是什么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?</a:t>
            </a:r>
            <a:r>
              <a:rPr b="1" lang="zh-CN" sz="3000" spc="-1" strike="noStrike">
                <a:solidFill>
                  <a:srgbClr val="ff0000"/>
                </a:solidFill>
                <a:latin typeface="Calibri"/>
              </a:rPr>
              <a:t>（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6</a:t>
            </a:r>
            <a:r>
              <a:rPr b="1" lang="zh-CN" sz="3000" spc="-1" strike="noStrike">
                <a:solidFill>
                  <a:srgbClr val="ff0000"/>
                </a:solidFill>
                <a:latin typeface="Calibri"/>
              </a:rPr>
              <a:t>分）</a:t>
            </a:r>
            <a:br>
              <a:rPr sz="3000"/>
            </a:br>
            <a:br>
              <a:rPr sz="3000"/>
            </a:b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【答案】①给我们介绍一个很有个性的学者。（或为了表现黄侃的狂、狷、严谨的个性，更好地丰富人物形象。）</a:t>
            </a:r>
            <a:br>
              <a:rPr sz="3000"/>
            </a:br>
            <a:br>
              <a:rPr sz="3000"/>
            </a:b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②用黄侃的个性和言行，来表现那个时代学者的自由风貌。</a:t>
            </a:r>
            <a:br>
              <a:rPr sz="3000"/>
            </a:br>
            <a:br>
              <a:rPr sz="3000"/>
            </a:b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③说明那个时代的新旧学者，在内在精神方面也有不少相通之处（或他们对学术独立、自由精神的追求、甚至革命行动的激烈等，也有不少相似之处）。】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Calibri"/>
              </a:rPr>
              <a:t>五、探究题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观点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分析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（观点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--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引据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--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论述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--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小结）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（结合文本或联系现实和知识储备）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  （分析部分要分点作答）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8000" y="115920"/>
            <a:ext cx="9036000" cy="66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Calibri"/>
              </a:rPr>
              <a:t>例题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南瓜点阻击战，张自忠将军选择了只身冲向敌人，壮烈牺牲。这种做法有人赞赏，有人不认同。请任选“赞赏”或“不认同”，结合文中张将军选择的原因，谈谈你的看法。（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分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   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赞赏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、①国难当头，我们需要英雄以热血和生命来唤醒激励民众；②张将军以牺牲生命一洗“汉奸”之耻，证明自己是铁血男儿，是国之栋梁；③张将军作为军人，为国捐躯，完成了为国尽忠的使命，实现了对冯玉祥将军的承诺；④张将军英勇献身的精神成为爱国主义精神的象征，将永远激励后人。（答对一点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分，最高得分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分）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Calibri"/>
              </a:rPr>
              <a:t>人物传记题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一、人物分析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二、作用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三、如何体现传记的真实性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四、写作意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五、探究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179280" y="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不认同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①留得青山在，不愁没柴烧，保全性命才能继续为国效忠；②战事初起，国家极其需要像张自忠那样身居要职，具有影响力的人，带领人民抵御外侮；③张将军可以更加理性地处理被人误解事件，不必立意“带着大家去找死路”，可以忍辱负重；④战术上需要避免不必要的牺牲，在打击敌人的同时要尽可能保全自己。（答对一点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分，最高得分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分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79280" y="-360"/>
            <a:ext cx="896472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Calibri"/>
              </a:rPr>
              <a:t>例题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1" lang="zh-CN" sz="2300" spc="-1" strike="noStrike">
                <a:solidFill>
                  <a:srgbClr val="ff0000"/>
                </a:solidFill>
                <a:latin typeface="Calibri"/>
              </a:rPr>
              <a:t>：</a:t>
            </a:r>
            <a:r>
              <a:rPr b="1" lang="zh-CN" sz="23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</a:rPr>
              <a:t>2015</a:t>
            </a:r>
            <a:r>
              <a:rPr b="1" lang="zh-CN" sz="2300" spc="-1" strike="noStrike">
                <a:solidFill>
                  <a:srgbClr val="000000"/>
                </a:solidFill>
                <a:latin typeface="Calibri"/>
              </a:rPr>
              <a:t>东关实验高三调研）一句话概括“</a:t>
            </a:r>
            <a:r>
              <a:rPr b="1" lang="zh-CN" sz="2300" spc="-1" strike="noStrike">
                <a:solidFill>
                  <a:srgbClr val="ff0000"/>
                </a:solidFill>
                <a:latin typeface="Calibri"/>
              </a:rPr>
              <a:t>独立思想</a:t>
            </a:r>
            <a:r>
              <a:rPr b="1" lang="zh-CN" sz="2300" spc="-1" strike="noStrike">
                <a:solidFill>
                  <a:srgbClr val="000000"/>
                </a:solidFill>
                <a:latin typeface="Calibri"/>
              </a:rPr>
              <a:t>”的体现，你如何看待许崇清的独立思想？</a:t>
            </a:r>
            <a:br>
              <a:rPr sz="2300"/>
            </a:br>
            <a:r>
              <a:rPr b="1" lang="zh-CN" sz="23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2300" spc="-1" strike="noStrike">
                <a:solidFill>
                  <a:srgbClr val="000000"/>
                </a:solidFill>
                <a:latin typeface="Calibri"/>
              </a:rPr>
              <a:t>）特点：独立思考，敢于挑战权威。（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zh-CN" sz="2300" spc="-1" strike="noStrike">
                <a:solidFill>
                  <a:srgbClr val="000000"/>
                </a:solidFill>
                <a:latin typeface="Calibri"/>
              </a:rPr>
              <a:t>分）</a:t>
            </a:r>
            <a:br>
              <a:rPr sz="2300"/>
            </a:br>
            <a:r>
              <a:rPr b="1" lang="zh-CN" sz="23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zh-CN" sz="2300" spc="-1" strike="noStrike">
                <a:solidFill>
                  <a:srgbClr val="000000"/>
                </a:solidFill>
                <a:latin typeface="Calibri"/>
              </a:rPr>
              <a:t>）看待：①许崇清的“独立思想”代表正义与良知，“成为现代大学的人格化象征”。（充分肯定其作用与影响）</a:t>
            </a:r>
            <a:br>
              <a:rPr sz="2300"/>
            </a:br>
            <a:r>
              <a:rPr b="1" lang="zh-CN" sz="2300" spc="-1" strike="noStrike">
                <a:solidFill>
                  <a:srgbClr val="000000"/>
                </a:solidFill>
                <a:latin typeface="Calibri"/>
              </a:rPr>
              <a:t>②在当今这个“媚俗”社会里，更需要“独立、正义、良知”。</a:t>
            </a:r>
            <a:br>
              <a:rPr sz="2300"/>
            </a:br>
            <a:r>
              <a:rPr b="1" lang="zh-CN" sz="2300" spc="-1" strike="noStrike">
                <a:solidFill>
                  <a:srgbClr val="000000"/>
                </a:solidFill>
                <a:latin typeface="Calibri"/>
              </a:rPr>
              <a:t>③许崇清的“独立思想”的精神应当继承发扬，而其内容我们应当有所区别。（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1" lang="zh-CN" sz="2300" spc="-1" strike="noStrike">
                <a:solidFill>
                  <a:srgbClr val="000000"/>
                </a:solidFill>
                <a:latin typeface="Calibri"/>
              </a:rPr>
              <a:t>分）</a:t>
            </a:r>
            <a:br>
              <a:rPr sz="2300"/>
            </a:br>
            <a:r>
              <a:rPr b="1" lang="en-US" sz="2300" spc="-1" strike="noStrike">
                <a:solidFill>
                  <a:srgbClr val="000000"/>
                </a:solidFill>
                <a:latin typeface="Calibri"/>
              </a:rPr>
              <a:t> 【如何看待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</a:rPr>
              <a:t>分。如何看待应有两部分组成：第一，结合文本评价独立思想的时代意义，第二，联系社会评价独立思想的现实意义。有这两方面要点即可得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</a:rPr>
              <a:t>分。此外，能够评价许崇清“独立思想”的优缺点，也可得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</a:rPr>
              <a:t>分。】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Calibri"/>
              </a:rPr>
              <a:t>一、人物分析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br>
              <a:rPr sz="3000"/>
            </a:b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⑴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概括传记中叙写传主哪几件事情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人生经历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；</a:t>
            </a:r>
            <a:br>
              <a:rPr sz="3000"/>
            </a:br>
            <a:br>
              <a:rPr sz="3000"/>
            </a:b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⑵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概括传主的主要思想性格；</a:t>
            </a:r>
            <a:br>
              <a:rPr sz="3000"/>
            </a:br>
            <a:br>
              <a:rPr sz="3000"/>
            </a:b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⑶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概括传主一生中取得的主要成就；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3000"/>
            </a:br>
            <a:br>
              <a:rPr sz="3000"/>
            </a:b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⑷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概括传主取得成功的主要因素；</a:t>
            </a:r>
            <a:br>
              <a:rPr sz="3000"/>
            </a:br>
            <a:br>
              <a:rPr sz="3000"/>
            </a:b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⑸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分析传主的情感；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0" y="259920"/>
            <a:ext cx="896472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例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．请分段简述钱伟长的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人生历程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（不必涉及具体时间）。（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分）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答．【①钱伟长出身于书香门第，幼时受过良好的家庭教育。②少年时代进入清华物理系学习。③大学毕业后去欧美留学，在国外跟随名师学习。④抗战胜利后回国工作，生活艰辛却拒不赴美。⑤解放后，积极工作，成绩斐然。⑥“文革”期间坚持工作，取得成就。⑦改革开放后，出任上海工业大学校长（前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点缺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点扣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分。）】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0" y="0"/>
            <a:ext cx="9144000" cy="67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例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2.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从文中看，哪几件事对杨守敬的学术生涯产生了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重要影响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?(6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分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)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）青年时代听谭大勋讲授《述学》，临摹《舆地图》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）赴京参加会试，结识了许多名流学人，拓展了学术视野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）在日本搜访典籍，校勘珍本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）第七次会试失败后，绝意科举，专注学问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例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. 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根据文章内容，概括形成黄永厚独特画风的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主要因素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。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5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分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对绘画艺术的毕生追求和热爱；②丰富、传奇、坎坷的人生经历；③独特的生活态度（或十分低调，深居简出，淡泊明志。）（如两个都答，只能算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点）；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④涉猎广泛的阅读；⑤对社会人生的关注与思考；⑥孤傲、顽固的自信。（或不从流俗的个性）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点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分，答对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点得满分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Calibri"/>
              </a:rPr>
              <a:t>二、作用题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79280" y="1600200"/>
            <a:ext cx="896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、引用的作用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 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、类比（对比）的作用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、细节描写的作用——对塑造人物形象的作用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记叙顺序的作用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5. 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议论性文字的作用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1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、引用的作用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引什么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引传主自己说的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 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引日记、诗文、作品、书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         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引别人对其议论性评价性的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二、作用题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    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引用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的作用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     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四个维度：文本、传主、读者、作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体现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传记的真实性，印证作者的观点。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 .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增加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文采，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增强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文章的可读性感染力、表现力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  增强作品历史深度和情感力度的作用。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3 . 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对人物形象塑造起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辅佐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作用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4. 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突出和深化</a:t>
            </a: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传主形象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，体现传主的人格魅力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（思想、情感、精神、内心世界）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有助于读者更好地了解传主的精神。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他人的评论或者形象侧面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烘托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传主的形象，对人物做出客观公正的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评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404640"/>
            <a:ext cx="8229600" cy="645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例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、文本分别引用了著名女导演黄蜀芹、电影学院倪震教授、上海电影集团总裁任仲伦、电影放映员陈文亭四个人对谢晋电影的评述，请简要分析这些评述在文中的作用。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(5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分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例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、文章多处引用居里夫人的日记和信件有什么作用？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）最真实地表现传主本人当时的生活、工作、和思想的实际情况，走近传主的内心世界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）以显示传记本身的真实性、生动性、行文的多样性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12T02:06:56Z</dcterms:created>
  <dc:creator>Administrator</dc:creator>
  <dc:description/>
  <cp:keywords/>
  <dc:language>en-US</dc:language>
  <cp:lastModifiedBy>Administrator</cp:lastModifiedBy>
  <dcterms:modified xsi:type="dcterms:W3CDTF">2016-05-13T00:25:41Z</dcterms:modified>
  <cp:revision>47</cp:revision>
  <dc:subject/>
  <dc:title>人物传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