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7F6-B669-4B02-B1FB-6E4F0ACE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5CB-D9EF-4615-BEA6-1AD96AF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000-33DA-4E7E-949E-21670BA4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D56-0357-4A6F-A180-7D4690C8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AD1-9D99-4616-B62A-06281FB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406-4763-4DBF-B40A-C63F308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467-98B2-418D-9FDC-28F53DF8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87E-CD1F-4A20-BB6B-CC9894FB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730-8365-4366-9710-83746AC6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577-DC31-4C56-8D0D-6CE4C3D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FD1-A6AE-46F2-ABD4-46B0B6F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59B-0FDA-47BF-AEEC-C9D9B8C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3A8A-9F9D-4328-A55B-ECF304CAAB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457" descr="D:\心怡坊素材库.files\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9458"/>
          <p:cNvSpPr/>
          <p:nvPr/>
        </p:nvSpPr>
        <p:spPr>
          <a:xfrm>
            <a:off x="1523880" y="2057400"/>
            <a:ext cx="67057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作文开头和结尾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技  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0241"/>
          <p:cNvSpPr/>
          <p:nvPr/>
        </p:nvSpPr>
        <p:spPr>
          <a:xfrm>
            <a:off x="685800" y="762120"/>
            <a:ext cx="800100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八、题记为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珍惜所拥有的青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刚刚抖落一身的稚气，刚刚放飞完美的天真，青春的微笑还很矜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题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美妙精辟的与文章有紧密联系的语言作为题记，可以起到提纲挈领的作用，令人耳目一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1265"/>
          <p:cNvSpPr/>
          <p:nvPr/>
        </p:nvSpPr>
        <p:spPr>
          <a:xfrm>
            <a:off x="533520" y="533520"/>
            <a:ext cx="807696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九、摘录援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抵御“诱惑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据说，在非洲的原野上，有一种叫作食虫草的花朵，色彩艳丽，芳香异常，许多飞虫抵御不了“诱惑”而葬身其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文章的开头引用和文章内容紧密相连的资料，然后再转入正文，很有说服力。并且好的资料，能够吸引读者的注意力，引导读者顺利地理解自己所要表达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2289"/>
          <p:cNvSpPr/>
          <p:nvPr/>
        </p:nvSpPr>
        <p:spPr>
          <a:xfrm>
            <a:off x="0" y="457200"/>
            <a:ext cx="9144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十、名言指路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朋   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培根说过：“无真实朋友之人，可以谓之是可怜而且永陷孤独生活的人。”他的话道出了朋友的重要。是的，假如一个人丧失了友情，他在这个世界上也就陷入了孤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名言指路，言简意赅，可以深入浅出地揭示出某种道理。在文章的开头引用名言，可以准确有力地表达出自己的观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3313"/>
          <p:cNvSpPr/>
          <p:nvPr/>
        </p:nvSpPr>
        <p:spPr>
          <a:xfrm>
            <a:off x="228600" y="457200"/>
            <a:ext cx="86104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十一、拨乱反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淡     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有人说，淡泊就是看破红尘，看透一切，认为一切都是假的、虚伪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种看法是对淡泊的曲解。如果我们翻一下字典就会明白。“淡泊就是不追求名利的意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于某一问题，现实生活中存在一些不准确的说法，作者可以在文章的开头予以说明，并亮出自己的观点，据此行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4337"/>
          <p:cNvSpPr/>
          <p:nvPr/>
        </p:nvSpPr>
        <p:spPr>
          <a:xfrm>
            <a:off x="228600" y="304920"/>
            <a:ext cx="891540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十二、以物喻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琐    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一颗老树，虽然到了它生命的最后一刻，但它仍倔强地生长着。它的根枯了，却把汁液输给了小树；它的叶黄了，却把生命的绿色注入了小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如今，小树刚刚抽枝吐叶，老树却离开了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正像外公离开了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象征的手法在散文中用的比较普遍。开头描写一种物的精神，然后由物及人，引出所要刻画的人物，这样，可以增加文章的内涵和深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5361" descr="D:\文档文件\我的课件\课件图片背景\背景图片\PM_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5362"/>
          <p:cNvSpPr/>
          <p:nvPr/>
        </p:nvSpPr>
        <p:spPr>
          <a:xfrm>
            <a:off x="1828800" y="1371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文章的开头的方法不只这些，同学们平时阅读时要注意积累，作有心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8434" descr="C:\Documents and Settings\Administrator.G2LJQUM0MD5MXK1\My Documents\img2\img2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8435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作文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结尾的技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20481"/>
          <p:cNvSpPr/>
          <p:nvPr/>
        </p:nvSpPr>
        <p:spPr>
          <a:xfrm>
            <a:off x="838080" y="1897200"/>
            <a:ext cx="69343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学生作文结尾容易出现的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画蛇添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空喊口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拖泥带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21505"/>
          <p:cNvSpPr/>
          <p:nvPr/>
        </p:nvSpPr>
        <p:spPr>
          <a:xfrm>
            <a:off x="457200" y="11430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自然收束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：老人的故事讲完了，所有人都安静地听着，不少人的眼里泛起了点点泪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刻意设计深刻的哲理语句，不加雕琢的水到渠成，这样的结尾就是”自然收束式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优点是简洁明快，朴素无华，在作文中广泛运用。但自然收束并不是随心所欲，草率结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22529"/>
          <p:cNvSpPr/>
          <p:nvPr/>
        </p:nvSpPr>
        <p:spPr>
          <a:xfrm>
            <a:off x="1219320" y="1905120"/>
            <a:ext cx="6858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二、首尾呼应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种结尾方式是各类文章极常见的收束方法。优点是可以唤起读者心理上的美感，产生一种首尾圆合，浑然一体的感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053" descr="C:\Documents and Settings\Administrator.G2LJQUM0MD5MXK1\My Documents\img1\img1.jpg"/>
          <p:cNvPicPr/>
          <p:nvPr/>
        </p:nvPicPr>
        <p:blipFill>
          <a:blip r:embed="rId1"/>
          <a:stretch/>
        </p:blipFill>
        <p:spPr>
          <a:xfrm flipH="1" rot="10800000">
            <a:off x="0" y="129492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作文开头的技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23553"/>
          <p:cNvSpPr/>
          <p:nvPr/>
        </p:nvSpPr>
        <p:spPr>
          <a:xfrm>
            <a:off x="304920" y="304920"/>
            <a:ext cx="85341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三、卒章志显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成一颗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说世上有“点石成金术”的话，那就是“艰难困苦”了。这可是人生的至宝啊！你忍耐着、坚持着，当走过黑暗与苦难的长长隧道之后，你或许会惊讶地发现，平凡如沙粒的你，不知不觉中，已长成了一颗珍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种结尾，以全文为依托，运用简洁的语言，把主题明确表达出来。又叫“画龙点睛式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24577"/>
          <p:cNvSpPr/>
          <p:nvPr/>
        </p:nvSpPr>
        <p:spPr>
          <a:xfrm>
            <a:off x="380880" y="228600"/>
            <a:ext cx="83059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四、名言警句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径通“乐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泰格尔曾经说过，“如果你因失去太阳而悲伤，你也将失去星星。”永远保持一颗美好的心灵，跃过艰难险阻，前方必将是柳暗花明的又一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用名言警句结尾，可以表述出含意深刻的耐人寻味的哲理或警策性内容，使之深深地印在读者心中，起到“言已尽，意无穷”的效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25601"/>
          <p:cNvSpPr/>
          <p:nvPr/>
        </p:nvSpPr>
        <p:spPr>
          <a:xfrm>
            <a:off x="457200" y="533520"/>
            <a:ext cx="81532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五、意味深长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帆的遐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的春天来了，我的春天也要来了吧！看呀，老爷爷在清理他的小船呢！也许明天，我就能满怀信心地出发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种结尾能够充分地表达作者心中的情愫，激起读者的情感波澜，引起读者的共鸣。好的“意味深长式”的结尾感情必然是油然而生的，给读者以真实感、充足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99"/>
          <p:cNvSpPr/>
          <p:nvPr/>
        </p:nvSpPr>
        <p:spPr>
          <a:xfrm>
            <a:off x="66600" y="189000"/>
            <a:ext cx="916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一个人心灵成长和心智成熟，是一个漫长、渐进的过程。其间，亲人的呵护、师长的教诲、同伴的启迪、书香的熏陶、生活的风风雨雨，或者曾经的迷茫、沮丧与顿悟等，无不在我们的人生道路上留下或深或浅的印痕，让我们从懵懂慢慢走向成熟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请根据自己的生活经历和切身体验，以“就这样慢慢长大”为题，写一篇文章。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求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诗歌外，文体不限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中不得出现真实的地名、校名和人名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书写要工整、规范、美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6625" descr="D:\文档文件\我的课件\课件图片背景\背景图片\PM_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26626"/>
          <p:cNvSpPr/>
          <p:nvPr/>
        </p:nvSpPr>
        <p:spPr>
          <a:xfrm>
            <a:off x="2057400" y="1828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作文的开头和结尾虽然有一定的规律，但“文无定法”，希望同学们灵活运用，切忌生搬硬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3073"/>
          <p:cNvSpPr/>
          <p:nvPr/>
        </p:nvSpPr>
        <p:spPr>
          <a:xfrm>
            <a:off x="1066680" y="1066680"/>
            <a:ext cx="731520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开门见山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攀比风，可以休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目前，校园攀比之风肆虐，我认为这种风气确实需要刹一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篇点题，显示明朗简捷的文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097"/>
          <p:cNvSpPr/>
          <p:nvPr/>
        </p:nvSpPr>
        <p:spPr>
          <a:xfrm>
            <a:off x="1143000" y="762120"/>
            <a:ext cx="6781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欲扬先抑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同    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唉！老师怎么让我和她坐一个桌呢？她可是我们班最凶的女生啦！就因为这，大家都叫她“虎妞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蓄声造势可酝酿出一波三折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5121"/>
          <p:cNvSpPr/>
          <p:nvPr/>
        </p:nvSpPr>
        <p:spPr>
          <a:xfrm>
            <a:off x="304920" y="609480"/>
            <a:ext cx="86104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描形绘神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同        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，长得真丑：黄瘦的脸；尖尖的下巴；淡得几乎看不见的眉毛下，一双细眯的眼睛；鼻子扁而平，一口参差不齐的牙齿，略有黄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唉甭提了，她的外表真不符合这么动听的名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祝丽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似电影镜头一般，让主人公先出场。抓住特征描写，寥寥几笔，点化出人物的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6145"/>
          <p:cNvSpPr/>
          <p:nvPr/>
        </p:nvSpPr>
        <p:spPr>
          <a:xfrm>
            <a:off x="304920" y="685800"/>
            <a:ext cx="822960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四、截取精彩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报       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卖报，卖报！”街上又传来熟悉的声音。“今天的消息好哇！一份八块钱。”他今天的叫声似乎特别凄楚，我眼前那瘦小的身影在我脑中盘旋，久久不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事件最精彩之处开始，再叙述经过，此法最吸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7169"/>
          <p:cNvSpPr/>
          <p:nvPr/>
        </p:nvSpPr>
        <p:spPr>
          <a:xfrm>
            <a:off x="228600" y="457200"/>
            <a:ext cx="89154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五、歌词开头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常回家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“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常回家看看，回家看看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”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歌声在房间的上空回旋着。东东拿着父亲的信，泪水溢满了脸颊。三年了，东东离家已经整整三年了，三年来父亲的一封封信已将东东心中的仇恨化为乌有。东东掩卷而思，思绪又回到了三年前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歌词表达的感情比较透彻，尤其是好的歌词，更能恰如其分地表达作者的情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8193"/>
          <p:cNvSpPr/>
          <p:nvPr/>
        </p:nvSpPr>
        <p:spPr>
          <a:xfrm>
            <a:off x="0" y="228600"/>
            <a:ext cx="91440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六、环境描写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留在记忆深处的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晚风吹过河面上最后一波涟漪，夕阳收起它最后一道余辉，秋霜目送去最后一只归雁。我们默默地站着。目光游离在那若开若合的记忆的门上。当许许多多都已逝去，当许许多多都已凋尽，我们起码还可以对自己说：“别伤心，我已体验过那种感觉，虽然只是曾经拥有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环境描写开头可以渲染气氛，为行文作铺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9217"/>
          <p:cNvSpPr/>
          <p:nvPr/>
        </p:nvSpPr>
        <p:spPr>
          <a:xfrm>
            <a:off x="762120" y="914400"/>
            <a:ext cx="761976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七、议论抒情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朋   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随着岁月的流逝，许多人渐渐被我淡忘了，然而，有那么一双眼睛，一种声音，一个身影，至今萦绕在我心头，久久不能忘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头直抒胸臆，可以为全文订下感情的基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1:29Z</dcterms:created>
  <dc:creator>办公室</dc:creator>
  <dc:description/>
  <dc:language>en-US</dc:language>
  <cp:lastModifiedBy>fh</cp:lastModifiedBy>
  <dcterms:modified xsi:type="dcterms:W3CDTF">2016-06-14T14:06:43Z</dcterms:modified>
  <cp:revision>32</cp:revision>
  <dc:subject/>
  <dc:title>开头的技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