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FFE0-164B-4EA2-8C11-3C60C3BB9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108E-9E72-4141-B29C-F63AA6A9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845C-0238-419E-8F21-A4D7DFDAE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9521-5F8C-4721-BBD9-4FFE9772B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70F7-21C7-4948-9E43-767E91177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0DCD-C1CF-4A5A-9B36-E7411A349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6AD9-47EE-44E3-8345-D3FD386DA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29B1-B444-4246-AC6C-149074D95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C936-C85D-46BC-83D9-F8224BEA4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07D7-E8F1-4CAD-9652-2E41666A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7660-83B9-488A-9397-8BB1C839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7C95-6403-43D3-93AA-8AA9D1F9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F4819-2A07-499F-BF27-29CCB4C995D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9457" descr="D:\心怡坊素材库.files\0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文本框 19458"/>
          <p:cNvSpPr/>
          <p:nvPr/>
        </p:nvSpPr>
        <p:spPr>
          <a:xfrm>
            <a:off x="1523880" y="2057400"/>
            <a:ext cx="6705720" cy="24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Times New Roman"/>
              </a:rPr>
              <a:t>作文开头和结尾的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技  巧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文本框 10241"/>
          <p:cNvSpPr/>
          <p:nvPr/>
        </p:nvSpPr>
        <p:spPr>
          <a:xfrm>
            <a:off x="685800" y="762120"/>
            <a:ext cx="800100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Times New Roman"/>
                <a:ea typeface="隶书"/>
              </a:rPr>
              <a:t>八、题记为冠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珍惜所拥有的青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刚刚抖落一身的稚气，刚刚放飞完美的天真，青春的微笑还很矜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题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用美妙精辟的与文章有紧密联系的语言作为题记，可以起到提纲挈领的作用，令人耳目一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文本框 11265"/>
          <p:cNvSpPr/>
          <p:nvPr/>
        </p:nvSpPr>
        <p:spPr>
          <a:xfrm>
            <a:off x="533520" y="533520"/>
            <a:ext cx="8076960" cy="33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Times New Roman"/>
                <a:ea typeface="隶书"/>
              </a:rPr>
              <a:t>九、摘录援引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抵御“诱惑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据说，在非洲的原野上，有一种叫作食虫草的花朵，色彩艳丽，芳香异常，许多飞虫抵御不了“诱惑”而葬身其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在文章的开头引用和文章内容紧密相连的资料，然后再转入正文，很有说服力。并且好的资料，能够吸引读者的注意力，引导读者顺利地理解自己所要表达的内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文本框 12289"/>
          <p:cNvSpPr/>
          <p:nvPr/>
        </p:nvSpPr>
        <p:spPr>
          <a:xfrm>
            <a:off x="0" y="457200"/>
            <a:ext cx="914400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Times New Roman"/>
                <a:ea typeface="隶书"/>
              </a:rPr>
              <a:t>十、名言指路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朋   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培根说过：“无真实朋友之人，可以谓之是可怜而且永陷孤独生活的人。”他的话道出了朋友的重要。是的，假如一个人丧失了友情，他在这个世界上也就陷入了孤独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名言指路，言简意赅，可以深入浅出地揭示出某种道理。在文章的开头引用名言，可以准确有力地表达出自己的观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文本框 13313"/>
          <p:cNvSpPr/>
          <p:nvPr/>
        </p:nvSpPr>
        <p:spPr>
          <a:xfrm>
            <a:off x="228600" y="457200"/>
            <a:ext cx="8610480" cy="39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十一、拨乱反正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淡     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有人说，淡泊就是看破红尘，看透一切，认为一切都是假的、虚伪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……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这种看法是对淡泊的曲解。如果我们翻一下字典就会明白。“淡泊就是不追求名利的意思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对于某一问题，现实生活中存在一些不准确的说法，作者可以在文章的开头予以说明，并亮出自己的观点，据此行文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文本框 14337"/>
          <p:cNvSpPr/>
          <p:nvPr/>
        </p:nvSpPr>
        <p:spPr>
          <a:xfrm>
            <a:off x="228600" y="304920"/>
            <a:ext cx="8915400" cy="38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十二、以物喻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琐    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一颗老树，虽然到了它生命的最后一刻，但它仍倔强地生长着。它的根枯了，却把汁液输给了小树；它的叶黄了，却把生命的绿色注入了小树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……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如今，小树刚刚抽枝吐叶，老树却离开了它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……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这正像外公离开了我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象征的手法在散文中用的比较普遍。开头描写一种物的精神，然后由物及人，引出所要刻画的人物，这样，可以增加文章的内涵和深度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15361" descr="D:\文档文件\我的课件\课件图片背景\背景图片\PM_0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文本框 15362"/>
          <p:cNvSpPr/>
          <p:nvPr/>
        </p:nvSpPr>
        <p:spPr>
          <a:xfrm>
            <a:off x="1828800" y="137160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方正舒体"/>
              </a:rPr>
              <a:t>文章的开头的方法不只这些，同学们平时阅读时要注意积累，作有心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18434" descr="C:\Documents and Settings\Administrator.G2LJQUM0MD5MXK1\My Documents\img2\img2.jpg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61" name="文本框 18435"/>
          <p:cNvSpPr/>
          <p:nvPr/>
        </p:nvSpPr>
        <p:spPr>
          <a:xfrm>
            <a:off x="304920" y="30492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     </a:t>
            </a:r>
            <a:r>
              <a:rPr b="0" lang="zh-CN" sz="6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作文</a:t>
            </a:r>
            <a:r>
              <a:rPr b="0" lang="zh-CN" sz="72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结尾的技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文本框 20481"/>
          <p:cNvSpPr/>
          <p:nvPr/>
        </p:nvSpPr>
        <p:spPr>
          <a:xfrm>
            <a:off x="838080" y="1897200"/>
            <a:ext cx="6934320" cy="28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学生作文结尾容易出现的问题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、画蛇添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、空喊口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、拖泥带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文本框 21505"/>
          <p:cNvSpPr/>
          <p:nvPr/>
        </p:nvSpPr>
        <p:spPr>
          <a:xfrm>
            <a:off x="457200" y="1143000"/>
            <a:ext cx="83059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一、自然收束式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如：老人的故事讲完了，所有人都安静地听着，不少人的眼里泛起了点点泪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不刻意设计深刻的哲理语句，不加雕琢的水到渠成，这样的结尾就是”自然收束式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优点是简洁明快，朴素无华，在作文中广泛运用。但自然收束并不是随心所欲，草率结尾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文本框 22529"/>
          <p:cNvSpPr/>
          <p:nvPr/>
        </p:nvSpPr>
        <p:spPr>
          <a:xfrm>
            <a:off x="1219320" y="1905120"/>
            <a:ext cx="6858000" cy="15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二、首尾呼应式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这种结尾方式是各类文章极常见的收束方法。优点是可以唤起读者心理上的美感，产生一种首尾圆合，浑然一体的感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2053" descr="C:\Documents and Settings\Administrator.G2LJQUM0MD5MXK1\My Documents\img1\img1.jpg"/>
          <p:cNvPicPr/>
          <p:nvPr/>
        </p:nvPicPr>
        <p:blipFill>
          <a:blip r:embed="rId1"/>
          <a:stretch/>
        </p:blipFill>
        <p:spPr>
          <a:xfrm flipH="1" rot="10800000">
            <a:off x="0" y="129492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华文行楷"/>
                <a:ea typeface="华文行楷"/>
              </a:rPr>
              <a:t>作文开头的技巧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文本框 23553"/>
          <p:cNvSpPr/>
          <p:nvPr/>
        </p:nvSpPr>
        <p:spPr>
          <a:xfrm>
            <a:off x="304920" y="304920"/>
            <a:ext cx="8534160" cy="44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三、卒章志显式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长成一颗珍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如果说世上有“点石成金术”的话，那就是“艰难困苦”了。这可是人生的至宝啊！你忍耐着、坚持着，当走过黑暗与苦难的长长隧道之后，你或许会惊讶地发现，平凡如沙粒的你，不知不觉中，已长成了一颗珍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这种结尾，以全文为依托，运用简洁的语言，把主题明确表达出来。又叫“画龙点睛式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文本框 24577"/>
          <p:cNvSpPr/>
          <p:nvPr/>
        </p:nvSpPr>
        <p:spPr>
          <a:xfrm>
            <a:off x="380880" y="228600"/>
            <a:ext cx="8305920" cy="31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四、名言警句式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曲径通“乐”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泰格尔曾经说过，“如果你因失去太阳而悲伤，你也将失去星星。”永远保持一颗美好的心灵，跃过艰难险阻，前方必将是柳暗花明的又一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用名言警句结尾，可以表述出含意深刻的耐人寻味的哲理或警策性内容，使之深深地印在读者心中，起到“言已尽，意无穷”的效果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文本框 25601"/>
          <p:cNvSpPr/>
          <p:nvPr/>
        </p:nvSpPr>
        <p:spPr>
          <a:xfrm>
            <a:off x="457200" y="533520"/>
            <a:ext cx="8153280" cy="35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五、意味深长式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白帆的遐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海的春天来了，我的春天也要来了吧！看呀，老爷爷在清理他的小船呢！也许明天，我就能满怀信心地出发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这种结尾能够充分地表达作者心中的情愫，激起读者的情感波澜，引起读者的共鸣。好的“意味深长式”的结尾感情必然是油然而生的，给读者以真实感、充足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文本框 99"/>
          <p:cNvSpPr/>
          <p:nvPr/>
        </p:nvSpPr>
        <p:spPr>
          <a:xfrm>
            <a:off x="66600" y="189000"/>
            <a:ext cx="9161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　　一个人心灵成长和心智成熟，是一个漫长、渐进的过程。其间，亲人的呵护、师长的教诲、同伴的启迪、书香的熏陶、生活的风风雨雨，或者曾经的迷茫、沮丧与顿悟等，无不在我们的人生道路上留下或深或浅的印痕，让我们从懵懂慢慢走向成熟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　　请根据自己的生活经历和切身体验，以“就这样慢慢长大”为题，写一篇文章。　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要求：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除诗歌外，文体不限；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少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字；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文中不得出现真实的地名、校名和人名；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④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书写要工整、规范、美观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图片 26625" descr="D:\文档文件\我的课件\课件图片背景\背景图片\PM_00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文本框 26626"/>
          <p:cNvSpPr/>
          <p:nvPr/>
        </p:nvSpPr>
        <p:spPr>
          <a:xfrm>
            <a:off x="2057400" y="1828800"/>
            <a:ext cx="510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ff33"/>
                </a:solidFill>
                <a:latin typeface="Times New Roman"/>
                <a:ea typeface="华文行楷"/>
              </a:rPr>
              <a:t>作文的开头和结尾虽然有一定的规律，但“文无定法”，希望同学们灵活运用，切忌生搬硬套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文本框 3073"/>
          <p:cNvSpPr/>
          <p:nvPr/>
        </p:nvSpPr>
        <p:spPr>
          <a:xfrm>
            <a:off x="1066680" y="1066680"/>
            <a:ext cx="7315200" cy="34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Times New Roman"/>
                <a:ea typeface="隶书"/>
              </a:rPr>
              <a:t>一、开门见山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攀比风，可以休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目前，校园攀比之风肆虐，我认为这种风气确实需要刹一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开篇点题，显示明朗简捷的文风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文本框 4097"/>
          <p:cNvSpPr/>
          <p:nvPr/>
        </p:nvSpPr>
        <p:spPr>
          <a:xfrm>
            <a:off x="1143000" y="762120"/>
            <a:ext cx="678168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Times New Roman"/>
                <a:ea typeface="隶书"/>
              </a:rPr>
              <a:t>二、欲扬先抑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同    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唉！老师怎么让我和她坐一个桌呢？她可是我们班最凶的女生啦！就因为这，大家都叫她“虎妞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蓄声造势可酝酿出一波三折的效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文本框 5121"/>
          <p:cNvSpPr/>
          <p:nvPr/>
        </p:nvSpPr>
        <p:spPr>
          <a:xfrm>
            <a:off x="304920" y="609480"/>
            <a:ext cx="8610480" cy="33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三、描形绘神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同        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她，长得真丑：黄瘦的脸；尖尖的下巴；淡得几乎看不见的眉毛下，一双细眯的眼睛；鼻子扁而平，一口参差不齐的牙齿，略有黄色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……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唉甭提了，她的外表真不符合这么动听的名字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祝丽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似电影镜头一般，让主人公先出场。抓住特征描写，寥寥几笔，点化出人物的特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文本框 6145"/>
          <p:cNvSpPr/>
          <p:nvPr/>
        </p:nvSpPr>
        <p:spPr>
          <a:xfrm>
            <a:off x="304920" y="685800"/>
            <a:ext cx="8229600" cy="46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Times New Roman"/>
                <a:ea typeface="隶书"/>
              </a:rPr>
              <a:t>四、截取精彩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报       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卖报，卖报！”街上又传来熟悉的声音。“今天的消息好哇！一份八块钱。”他今天的叫声似乎特别凄楚，我眼前那瘦小的身影在我脑中盘旋，久久不去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由事件最精彩之处开始，再叙述经过，此法最吸引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文本框 7169"/>
          <p:cNvSpPr/>
          <p:nvPr/>
        </p:nvSpPr>
        <p:spPr>
          <a:xfrm>
            <a:off x="228600" y="457200"/>
            <a:ext cx="8915400" cy="42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Times New Roman"/>
                <a:ea typeface="隶书"/>
              </a:rPr>
              <a:t>五、歌词开头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常回家看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   “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常回家看看，回家看看</a:t>
            </a:r>
            <a:r>
              <a:rPr b="0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……”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歌声在房间的上空回旋着。东东拿着父亲的信，泪水溢满了脸颊。三年了，东东离家已经整整三年了，三年来父亲的一封封信已将东东心中的仇恨化为乌有。东东掩卷而思，思绪又回到了三年前</a:t>
            </a:r>
            <a:r>
              <a:rPr b="0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歌词表达的感情比较透彻，尤其是好的歌词，更能恰如其分地表达作者的情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文本框 8193"/>
          <p:cNvSpPr/>
          <p:nvPr/>
        </p:nvSpPr>
        <p:spPr>
          <a:xfrm>
            <a:off x="0" y="228600"/>
            <a:ext cx="9144000" cy="34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Times New Roman"/>
                <a:ea typeface="隶书"/>
              </a:rPr>
              <a:t>六、环境描写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留在记忆深处的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晚风吹过河面上最后一波涟漪，夕阳收起它最后一道余辉，秋霜目送去最后一只归雁。我们默默地站着。目光游离在那若开若合的记忆的门上。当许许多多都已逝去，当许许多多都已凋尽，我们起码还可以对自己说：“别伤心，我已体验过那种感觉，虽然只是曾经拥有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环境描写开头可以渲染气氛，为行文作铺垫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文本框 9217"/>
          <p:cNvSpPr/>
          <p:nvPr/>
        </p:nvSpPr>
        <p:spPr>
          <a:xfrm>
            <a:off x="762120" y="914400"/>
            <a:ext cx="7619760" cy="39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七、议论抒情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朋   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随着岁月的流逝，许多人渐渐被我淡忘了，然而，有那么一双眼睛，一种声音，一个身影，至今萦绕在我心头，久久不能忘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开头直抒胸臆，可以为全文订下感情的基调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06:21:29Z</dcterms:created>
  <dc:creator>办公室</dc:creator>
  <dc:description/>
  <dc:language>en-US</dc:language>
  <cp:lastModifiedBy>fh</cp:lastModifiedBy>
  <dcterms:modified xsi:type="dcterms:W3CDTF">2016-06-14T14:06:43Z</dcterms:modified>
  <cp:revision>32</cp:revision>
  <dc:subject/>
  <dc:title>开头的技巧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