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7DFF-9A4B-4897-8ECE-09A32119B0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CF1-8C32-4E7A-9AC4-11A7FCD01840}" type="slidenum">
              <a:rPr b="0" lang="zh-CN" sz="1200" spc="-1" strike="noStrike">
                <a:solidFill>
                  <a:srgbClr val="dde8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ABD-91AB-44E8-8629-4F755217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853-D73F-407A-A941-7AABFA22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83D-1A84-4C9F-8BDC-13252D52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6B5-A18E-4DEB-A21E-72DB4B77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4F8-C7C0-421E-A388-2FEDE07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7A2-0A7D-415F-BBC9-3962DFF7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C83-429B-4EB8-9E33-8F47F5B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77A-2091-4DBC-937E-9C7E9692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DA6-BA16-483D-9EBC-E9434512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62C-F318-412E-A08C-5957992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6E8-E78D-4841-B9FA-C1583C36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225-42C3-4A0F-AB69-721BAA8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0880" cy="53244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1093-83DE-44A4-BFB8-D18E12ED0F8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8" name="Picture 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3434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00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6"/>
          <p:cNvGrpSpPr/>
          <p:nvPr/>
        </p:nvGrpSpPr>
        <p:grpSpPr>
          <a:xfrm>
            <a:off x="-6480" y="1166760"/>
            <a:ext cx="9159480" cy="5444640"/>
            <a:chOff x="-6480" y="1166760"/>
            <a:chExt cx="9159480" cy="5444640"/>
          </a:xfrm>
        </p:grpSpPr>
        <p:pic>
          <p:nvPicPr>
            <p:cNvPr id="100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-6480" y="116676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1240" y="130104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9"/>
          <p:cNvSpPr/>
          <p:nvPr/>
        </p:nvSpPr>
        <p:spPr>
          <a:xfrm>
            <a:off x="395280" y="184464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大家齐声朗读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节，进一步思考作者对雨寄托了怎样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想感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表达了怎样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生态度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0" lang="zh-CN" sz="2800" spc="-1" strike="noStrike">
                <a:solidFill>
                  <a:srgbClr val="dde89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755640" y="4797360"/>
            <a:ext cx="720720" cy="720720"/>
          </a:xfrm>
          <a:prstGeom prst="smileyFace">
            <a:avLst>
              <a:gd name="adj" fmla="val 9282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547640" y="450864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托了作者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雨的喜欢与爱恋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了作者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大自然与生命的热爱。 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50920" y="26028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提炼主旨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·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体会感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6"/>
          <p:cNvGrpSpPr/>
          <p:nvPr/>
        </p:nvGrpSpPr>
        <p:grpSpPr>
          <a:xfrm>
            <a:off x="0" y="1197000"/>
            <a:ext cx="9159480" cy="5444640"/>
            <a:chOff x="0" y="1197000"/>
            <a:chExt cx="9159480" cy="5444640"/>
          </a:xfrm>
        </p:grpSpPr>
        <p:pic>
          <p:nvPicPr>
            <p:cNvPr id="107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7720" y="133128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 Box 9"/>
          <p:cNvSpPr/>
          <p:nvPr/>
        </p:nvSpPr>
        <p:spPr>
          <a:xfrm>
            <a:off x="395280" y="1773360"/>
            <a:ext cx="8424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者为什么把文题写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“雨的四季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而不是“四季的雨”？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971640" y="3933720"/>
            <a:ext cx="720720" cy="720720"/>
          </a:xfrm>
          <a:prstGeom prst="smileyFace">
            <a:avLst>
              <a:gd name="adj" fmla="val 9282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908000" y="35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者：呆板、生硬；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者：灵动，赋予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人格       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化，充满情趣和意境。 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0920" y="26028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提炼主旨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·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回归题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3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22480" y="55872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" y="0"/>
            <a:ext cx="5141880" cy="2963880"/>
          </a:xfrm>
          <a:prstGeom prst="irregularSeal1">
            <a:avLst/>
          </a:prstGeom>
          <a:solidFill>
            <a:srgbClr val="fff6d1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97000" y="77940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作者：刘湛秋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115160"/>
            <a:ext cx="728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刘湛秋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安徽芜湖人，当代著名诗人，翻译家，评论家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其作品清新空灵，富有现代意识，手法新颖洒脱，立足表现感觉与情绪，既面对生活，又超越时空。早在八十年代中期，他就被一代大学生誉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抒情诗之王。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他结集出版有诗歌、散文、评论、翻译、小说等三十余种，其诗集《无题抒情诗》获过中国新诗奖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13372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5e2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没体验过那么柔软的阳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没体验过那么柔软的阳光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飘落的羽毛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一阵爱的抚摸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秋天，异样的恬静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苹果神秘地挂上白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没体验过那么柔软的阳光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一只解缆的船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滚动的绒线球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西风扬起蓝透了的云帆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枫叶在偷偷地把你张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也许追求比秋天更多寥阔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也许幸福会不期而降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大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你的美每搅动一次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心灵便有一千种和谐的音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437840"/>
            <a:ext cx="8229600" cy="18334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9a2a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刘湛秋的散文有一种田园美，他的文字自然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亲切、优美，一事一物、一草一木、一色一声，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能轻松道来，吸引着你跟着他的行文一走到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762120"/>
            <a:ext cx="1676520" cy="5205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师小结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融情于景的写法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文作者描绘了四季的雨，但他单纯是为了写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何才能做到融情于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明确：《雨的四季》将雨人格化，使雨变得鲜活。同时这也是一段历程，一段经历了春夏秋冬而逐渐丰盈完满的生命历程。因此，可以说，作者热爱四季的雨，更是热爱四季的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融情于景”者，明写景，即字面都是写景之语；但是，必须暗含情，即“一切景语皆情语”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小结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自然中的风雨雷电、山水湖泊、花鸟虫鱼，一点一滴，奏出美妙的旋律，只有细心观察、聆听、感悟、思考，才能了解其中的深意，领悟其中美的真谛。让我们做生活的有心人，努力捕捉身边平凡而真实的美丽，用心灵之笔谱写出真情的华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02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拓展训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-6480" y="1166760"/>
            <a:ext cx="9159480" cy="5444640"/>
            <a:chOff x="-6480" y="1166760"/>
            <a:chExt cx="9159480" cy="5444640"/>
          </a:xfrm>
        </p:grpSpPr>
        <p:pic>
          <p:nvPicPr>
            <p:cNvPr id="130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-6480" y="116676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1240" y="130104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6"/>
          <p:cNvSpPr/>
          <p:nvPr/>
        </p:nvSpPr>
        <p:spPr>
          <a:xfrm>
            <a:off x="2556000" y="1197000"/>
            <a:ext cx="6372000" cy="56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雨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题，写一段文字，百字左右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创设：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考试失利时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被表扬后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朋友产生了误会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想起了远方的老家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清明节祭扫亲人的情景；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33" name="Picture 12" descr="u=988949587,403735889&amp;fm=51&amp;gp=0"/>
          <p:cNvPicPr/>
          <p:nvPr/>
        </p:nvPicPr>
        <p:blipFill>
          <a:blip r:embed="rId3"/>
          <a:stretch/>
        </p:blipFill>
        <p:spPr>
          <a:xfrm>
            <a:off x="395280" y="1628640"/>
            <a:ext cx="2232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在飞花轻似梦，无边丝雨细如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秦观《浣溪沙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漠漠轻寒上小楼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空山新雨后，天气晚来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王维《山居秋暝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楼一夜听春雨，深巷明朝卖杏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陆游《临安春雨初霁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君问归期未有期，巴山夜雨涨秋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李商隐《夜雨寄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春潮带雨晚来急，野渡无人舟自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韦应物《滁州西涧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2104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齐诵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cb35"/>
                </a:solidFill>
                <a:latin typeface="Arial"/>
              </a:rPr>
              <a:t>雨是古代诗人的钟爱之物，他们以雨来寄托内心的喜怒哀乐，雨同样也受到现代作家的青睐。今天我们一起阅读刘湛秋的散文——《雨的四季》，共同感受四季不一样的雨之美、情之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5181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63598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勾画关键句子，感受不同季节的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班分为四组：春雨、夏雨、秋雨、冬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最能体现出四季之雨的特点的句子，并用一两个词语概括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流、讨论后，每组由代表发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珠子从花苞里滴下来，比少女的眼泪还娇媚。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生机、妩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夏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天的雨也有夏天的性格，热烈而又粗犷。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热烈、粗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秋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，似乎也像出嫁生了孩子的母亲，显得端庄而又沉静了。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端庄、沉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冬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既不倾盆瓢泼，又不绵绵如丝，或淅淅沥沥，它显出一种自然、平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自然、平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鉴赏语言之精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你最喜欢的句子是什么？请试着在书上做些批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示范如何品析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棵树仿佛都睁开特别明亮的眼睛，树枝的手臂也顿时柔软了，而那萌发的叶子，简直就像起伏着一层绿茵茵的波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提示：从拟人、比喻的修辞入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明确：运用拟人、比喻，赋予了树以人的神态和动作，把萌发的叶子比作绿茵茵的波浪，生动形象地描绘了一幅生机勃勃的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珠子从花苞里滴下来，比少女的眼泪还娇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（提示：从对比的表现手法入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将春雨的水珠与少女的眼泪对比，渲染出春雨的无比娇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一位同学选择一个美句进行品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从如下几个角度去分析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修辞。先说运用了什么修辞手法，再说这种修辞手法的作用或好处，然后结合句子内容去分析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抓关键词语去分析。比如一些重点的动词、形容词等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从语言特点上去分析，语言生动形象，清新流畅等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表达方式。可从运用了什么表达方式点明文章的什么主题角度去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9"/>
          <p:cNvGrpSpPr/>
          <p:nvPr/>
        </p:nvGrpSpPr>
        <p:grpSpPr>
          <a:xfrm>
            <a:off x="-6480" y="1166760"/>
            <a:ext cx="9159480" cy="5444640"/>
            <a:chOff x="-6480" y="1166760"/>
            <a:chExt cx="9159480" cy="5444640"/>
          </a:xfrm>
        </p:grpSpPr>
        <p:pic>
          <p:nvPicPr>
            <p:cNvPr id="93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-6480" y="116676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1240" y="130104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18"/>
          <p:cNvSpPr/>
          <p:nvPr/>
        </p:nvSpPr>
        <p:spPr>
          <a:xfrm>
            <a:off x="324000" y="907920"/>
            <a:ext cx="85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盼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雨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雨，那秋雨和冬雨呢？请同学们默读课文的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节，静静地思考，在人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忘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秋雨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讨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冬雨的时候，作者为什么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秋雨和冬雨呢？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96" name="Picture 9" descr="20101020134952001"/>
          <p:cNvPicPr/>
          <p:nvPr/>
        </p:nvPicPr>
        <p:blipFill>
          <a:blip r:embed="rId3"/>
          <a:stretch/>
        </p:blipFill>
        <p:spPr>
          <a:xfrm>
            <a:off x="395280" y="4437000"/>
            <a:ext cx="4105440" cy="168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20101210_111509c7f346"/>
          <p:cNvPicPr/>
          <p:nvPr/>
        </p:nvPicPr>
        <p:blipFill>
          <a:blip r:embed="rId4"/>
          <a:stretch/>
        </p:blipFill>
        <p:spPr>
          <a:xfrm>
            <a:off x="4500720" y="4437000"/>
            <a:ext cx="4248000" cy="1711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60280"/>
            <a:ext cx="4883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研读文章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·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9T12:17:15Z</dcterms:created>
  <dc:creator>Administrator</dc:creator>
  <dc:description/>
  <dc:language>en-US</dc:language>
  <cp:lastModifiedBy>admin</cp:lastModifiedBy>
  <dcterms:modified xsi:type="dcterms:W3CDTF">2016-09-09T14:10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