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1.gif" ContentType="image/gif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cashreg.wav" ContentType="audio/x-wav"/>
  <Override PartName="/ppt/media/hamm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AA4D-4C2C-46CD-ADC1-9AEC19B9A7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朗读带，赏析全文，并且板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朗读带，解析全文时要板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王菲的歌，布置作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C7F-6AF4-4C86-8C26-307C483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D23-1F46-45E0-8BF9-3A2CC30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113-F3B6-4198-A4D1-567049C4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D17-0E5B-4801-9781-FFE43024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90D9-C5E0-4176-B199-95E072C5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3149-A806-444E-870D-F640940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F39-8B44-4D1D-AEF1-C1CAE816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6F4-9424-4233-8373-7F2AC6D2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8116-41DE-48D6-98DF-D849D69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F305-03D1-43DC-BB73-36C2331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4641-52DA-4716-8AC9-245E652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6F4-4885-4D03-97E8-2583571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FCD2-040B-4215-BA1F-E496E9A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C47-F83C-4CF9-BE39-526101F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C70-55F9-42E9-AAEE-121E388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D18B-2262-4D01-8CF3-50B14082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8A81-56E7-48C6-929F-8DF303E3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B97-352C-4233-8B2A-7B34FF0A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FD9-1AE9-4192-A036-753F024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F09-F940-45B7-BF3E-243147B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2A3-00FC-4978-8B2A-2E2FCD4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669-6258-4C1E-84FE-38805BA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3B9-5CE9-464F-8B3A-102F825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9BE-3579-4EB8-B30B-F4D99F4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6511-7B86-430E-A4A6-75778B658D8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28C-2470-409F-87BF-B7630462371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hammer.wav" TargetMode="External"/><Relationship Id="rId4" Type="http://schemas.microsoft.com/office/2007/relationships/media" Target="file:///tmp/home/.config/libreoffice/4/user/gallery/hammer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1.gi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shreg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67800" y="648180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65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88930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翻译词意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105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明月什么时候才有呢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我举着酒杯仰问青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。不知天宫中今晚又是哪一年？我真想驾乘着长风回到月宫，又怕那美玉砌成的宫殿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太高太寒冷了，让人禁受不了。在月光下起舞，影子也随人摇动，那月宫哪里比得上人间好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　月亮照过朱红色的楼阁，又低低照进了雕花的窗户，照着失眠的人。月亮对人世该没有什么怨恨吧，为什么总是在人们离别、孤独的时候变圆呢？人有悲欢离合，月有阴晴圆缺，这种事自古以来就很难周全。只希望亲人能健康长寿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虽然远隔千里也能共赏这美好月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705800" y="6496200"/>
            <a:ext cx="1438200" cy="36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解析全文，赏析重点词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27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11f5"/>
                </a:solidFill>
                <a:latin typeface="Arial"/>
              </a:rPr>
              <a:t>联想与想象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2421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55840" y="1989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   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2209680"/>
            <a:ext cx="502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285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月圆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人圆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149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4960" y="4581360"/>
            <a:ext cx="2057400" cy="15264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40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2181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1f5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4920" y="486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存在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明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)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不存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天宫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5800" y="6496200"/>
            <a:ext cx="1438200" cy="36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144792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联想：由一事物想到另一事物的过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57336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像：在原有形象的基础上创造出新形象的过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8317080" y="6237360"/>
            <a:ext cx="826920" cy="287280"/>
          </a:xfrm>
          <a:custGeom>
            <a:avLst/>
            <a:gdLst>
              <a:gd name="textAreaLeft" fmla="*/ 18360 w 826920"/>
              <a:gd name="textAreaRight" fmla="*/ 808560 w 826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124" h="21600">
                <a:moveTo>
                  <a:pt x="0" y="0"/>
                </a:moveTo>
                <a:lnTo>
                  <a:pt x="62124" y="0"/>
                </a:lnTo>
                <a:lnTo>
                  <a:pt x="62124" y="21600"/>
                </a:lnTo>
                <a:lnTo>
                  <a:pt x="0" y="21600"/>
                </a:lnTo>
                <a:close/>
              </a:path>
              <a:path fill="lightenLess" w="62124" h="21600">
                <a:moveTo>
                  <a:pt x="0" y="0"/>
                </a:moveTo>
                <a:lnTo>
                  <a:pt x="62124" y="0"/>
                </a:lnTo>
                <a:lnTo>
                  <a:pt x="60724" y="1400"/>
                </a:lnTo>
                <a:lnTo>
                  <a:pt x="1400" y="1400"/>
                </a:lnTo>
                <a:close/>
              </a:path>
              <a:path fill="darken" w="62124" h="21600">
                <a:moveTo>
                  <a:pt x="62124" y="0"/>
                </a:moveTo>
                <a:lnTo>
                  <a:pt x="62124" y="21600"/>
                </a:lnTo>
                <a:lnTo>
                  <a:pt x="60724" y="20200"/>
                </a:lnTo>
                <a:lnTo>
                  <a:pt x="60724" y="1400"/>
                </a:lnTo>
                <a:close/>
              </a:path>
              <a:path fill="darkenLess" w="62124" h="21600">
                <a:moveTo>
                  <a:pt x="62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24" y="20200"/>
                </a:lnTo>
                <a:close/>
              </a:path>
              <a:path fill="lighten" w="62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24" h="21600">
                <a:moveTo>
                  <a:pt x="24055" y="10800"/>
                </a:moveTo>
                <a:lnTo>
                  <a:pt x="38068" y="3794"/>
                </a:lnTo>
                <a:lnTo>
                  <a:pt x="38068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、这首词的上片和下片各写了什么内容？二者是什么关系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上片：望月写景，在“天上”“人间”徘徊矛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下片：对月抒怀，抒发对兄弟的美好祝愿和 思念及自己积极乐观、旷达的情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3645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文中哪些词语流露出作者思念亲人之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5373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转朱阁，低绮户，照无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3141720"/>
            <a:ext cx="41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景抒情、情景交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、哪些语句是作者对人生的感悟？你从中读出什么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157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有悲欢离合，月有阴晴圆缺，此事古难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哲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世界上不可能有永远圆满的事情，人生有欢聚，也必然有离别；这正是与月亮有圆时，也总有缺时一样，是原始自然界的规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386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词中哪句话抒发了作者对亲人的思念和美好祝愿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229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但愿人长久，千里共婵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朝廷既留恋又恐惧的矛盾心情，在逆境中的自我慰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亲人的思念，对天下人的良好祝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人生的乐观旷达的态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兼怀子由”，作者“怀念”的情感有以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曾到过世界上将进三十个国家，我看过许许多多的月亮。在风光旖旎的瑞士莱芒湖上，在平沙无垠的非洲大沙漠中，在碧波万顷的大海中，在巍峨雄奇的高山上，我都看到过月亮。这些月亮应该说都是美妙绝伦的，我都异常喜欢。但是，看到他们，我立刻就想到我故乡中那个苇坑上面和水中的那个小月亮。对比之下，无论如何我也感到，这些广阔世界的大月亮，万万比不上我那心爱的小月亮。不管我离开我的故乡多少万里，我的心立刻就飞来了。我的小月亮，我永远忘不掉你！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羡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 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你能举出哪些有关“月”的诗词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106668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静夜思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举头望明月，低头思故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4382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相见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言独上西楼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月如钩，寂寞梧桐深院锁清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581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王昌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出塞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秦时明月汉时关，万里长征人未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57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月下独酌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举杯邀明月，对影成三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思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2209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孤  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30481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怀  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4800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孤  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陶渊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归园田居》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晨兴理荒秽，带月荷锄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5791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安  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00600" y="3049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828800"/>
            <a:ext cx="43434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2767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876920"/>
            <a:ext cx="4343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302080"/>
            <a:ext cx="43434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9720" y="1773360"/>
            <a:ext cx="458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5291640" y="2205720"/>
            <a:ext cx="4969080" cy="179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水调歌头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4551840" y="3213000"/>
            <a:ext cx="2023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 轼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了解作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苏轼（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1037—110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）字子瞻，自号东坡居士，眉州眉山（今属四川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人，北宋中期文坛领袖，唐宋八大家之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苏轼的学识广博，他开豪放词风，在散文、诗歌、词、书法和绘画等方面都很精工。民间有“苏文熟， 吃羊肉；苏文生，吃菜羹”一说。有《东坡乐府笺》流传于世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背景资料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首词写于宋神宗熙宁九年（公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7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，即丙辰年）中秋节夜晚。当时，苏轼正被贬为密州太守（今山东诸城县），他的弟弟苏辙（子由）也因与变法派意见不合，远在山东济南，此时兄弟二人已有六、七年没有相见了。此时，苏轼开怀畅饮直到天明，禁不住思绪万千，乘着酒兴，写下了这篇千古名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066680" y="838080"/>
            <a:ext cx="4251240" cy="3959280"/>
            <a:chOff x="1066680" y="838080"/>
            <a:chExt cx="4251240" cy="3959280"/>
          </a:xfrm>
        </p:grpSpPr>
        <p:sp>
          <p:nvSpPr>
            <p:cNvPr id="106" name=""/>
            <p:cNvSpPr/>
            <p:nvPr/>
          </p:nvSpPr>
          <p:spPr>
            <a:xfrm>
              <a:off x="1066680" y="838080"/>
              <a:ext cx="4251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1600200"/>
              <a:ext cx="4251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2239920"/>
              <a:ext cx="425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223992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283356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808080"/>
                  </a:solidFill>
                  <a:latin typeface="Times New Roman"/>
                </a:rPr>
                <a:t>　</a:t>
              </a: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3427200"/>
              <a:ext cx="4251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175248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丙辰中秋，欢饮达旦，大醉，作此篇，兼怀子由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60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明月几时有？把酒问青天。不知天上宫阙，今夕是何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我欲乘风归去，又恐琼楼玉宇，高处不胜寒。起舞弄清影，何似在人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转朱阁，低绮户，照无眠。不应有恨，何事长向别时圆？人有悲欢离合，月有阴晴圆缺，此事古难全。但愿人长久，千里共婵娟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692280"/>
            <a:ext cx="4419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水调歌头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   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3831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23920" y="2971800"/>
            <a:ext cx="505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序言中，“中秋”、“兼怀子由”，透露了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本词的时间和目的。当时苏轼任密州太守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政治上失意，苏轼的弟弟子由被贬谪到离苏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百公里的山东济南，兄弟七年没有见面。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月思亲，心情抑郁惆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609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题解及写作背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762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057400"/>
            <a:ext cx="714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120" y="2201760"/>
            <a:ext cx="706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调歌头，是词牌名，其作用是规定一首词每句的字数、平仄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260280"/>
            <a:ext cx="754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检查课前预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一、给标出的字注音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2864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宫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阙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）   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琼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楼（     ）   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绮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户（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婵娟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   ）不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寒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丙辰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700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qu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162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qió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62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q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276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chán juā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2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shēng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2276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bǐng chén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二、解释下列词语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352680"/>
            <a:ext cx="655344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把：                               朱阁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胜寒：                       绮户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无眠：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何似：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何事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婵娟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35268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持；端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35268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朱红的楼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96252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禁不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雕花的窗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5720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难以成眠的人，这里指作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257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哪里比得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4724280"/>
            <a:ext cx="5140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指月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492280"/>
            <a:ext cx="13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689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为什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066680" y="838080"/>
            <a:ext cx="4251240" cy="3959280"/>
            <a:chOff x="1066680" y="838080"/>
            <a:chExt cx="4251240" cy="3959280"/>
          </a:xfrm>
        </p:grpSpPr>
        <p:sp>
          <p:nvSpPr>
            <p:cNvPr id="147" name=""/>
            <p:cNvSpPr/>
            <p:nvPr/>
          </p:nvSpPr>
          <p:spPr>
            <a:xfrm>
              <a:off x="1066680" y="838080"/>
              <a:ext cx="4251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600200"/>
              <a:ext cx="4251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2239920"/>
              <a:ext cx="425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223992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2833560"/>
              <a:ext cx="4251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808080"/>
                  </a:solidFill>
                  <a:latin typeface="Times New Roman"/>
                </a:rPr>
                <a:t>　</a:t>
              </a: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3427200"/>
              <a:ext cx="4251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12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1413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朗读课文，整体感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28600"/>
            <a:ext cx="91440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　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水 调 歌 头（宋）苏轼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丙辰中秋，欢饮达旦，大醉，作此篇，兼怀子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明月几时有？把酒问青天。不知天上宫阙，今夕是何年。我欲乘风归去，又恐琼楼玉宇，高处不胜寒。起舞弄清影，何似在人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转朱阁，低绮户，照无眠。不应有恨，何事长向别时圆？人有悲欢离合，月有阴晴圆缺，此事古难全。但愿人长久，千里共婵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998" h="21600">
                <a:moveTo>
                  <a:pt x="1249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998" h="21600">
                <a:moveTo>
                  <a:pt x="9923" y="8224"/>
                </a:moveTo>
                <a:lnTo>
                  <a:pt x="13787" y="8224"/>
                </a:lnTo>
                <a:lnTo>
                  <a:pt x="13787" y="15221"/>
                </a:lnTo>
                <a:lnTo>
                  <a:pt x="15075" y="15221"/>
                </a:lnTo>
                <a:lnTo>
                  <a:pt x="15075" y="16144"/>
                </a:lnTo>
                <a:lnTo>
                  <a:pt x="9923" y="16144"/>
                </a:lnTo>
                <a:lnTo>
                  <a:pt x="9923" y="15221"/>
                </a:lnTo>
                <a:lnTo>
                  <a:pt x="11211" y="15221"/>
                </a:lnTo>
                <a:lnTo>
                  <a:pt x="11211" y="9129"/>
                </a:lnTo>
                <a:lnTo>
                  <a:pt x="9923" y="912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1125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4560" y="1052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052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393372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400536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94560" y="3933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8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852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27813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2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335772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2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508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4508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5084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94172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50133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38319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29:55Z</dcterms:created>
  <dc:creator>liuchunyan</dc:creator>
  <dc:description/>
  <dc:language>en-US</dc:language>
  <cp:lastModifiedBy>liuchunyan</cp:lastModifiedBy>
  <dcterms:modified xsi:type="dcterms:W3CDTF">2014-04-01T14:12:4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