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type.wav" ContentType="audio/x-wav"/>
  <Override PartName="/ppt/media/image9.png" ContentType="image/png"/>
  <Override PartName="/ppt/media/image8.png" ContentType="image/png"/>
  <Override PartName="/ppt/media/chimes.wav" ContentType="audio/x-wav"/>
  <Override PartName="/ppt/media/image11.gif" ContentType="image/gif"/>
  <Override PartName="/ppt/media/image5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camera.wav" ContentType="audio/x-wav"/>
  <Override PartName="/ppt/media/cashreg.wav" ContentType="audio/x-wav"/>
  <Override PartName="/ppt/media/hamm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AF54-AAD9-4E63-9EE3-C99A85A82A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听朗读带，赏析全文，并且板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听朗读带，解析全文时要板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听王菲的歌，布置作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53C-D1C9-4C94-8458-1A867282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246-96E3-4CEC-8EA6-D65A2D0F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A32-ECC2-4B33-BB71-462EC586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6D1-D0B1-483C-A5EF-0CAEB0C7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6B5E-5178-4559-A0A0-06BA4D82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0488-3947-4B20-8068-D84830E8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7308-F893-4072-8EC8-B0D1B61F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25E7-4B0C-4AC6-A43B-E5EF5D2D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4EC2-443D-4807-B004-E9AE83DF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55BD-2306-4C42-A15E-38DDD9CD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DECC-DB97-4694-88BB-3B26C55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BEC-9A9D-442F-8951-7937FBD7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E7EE-CC3A-4BA8-AF47-F2E25DCF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540E-ED94-4ABA-A556-5BB8AE5B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7C5F-FC81-4BBD-928E-15E602CF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A9C5-23EC-4B2D-ACF4-FA6A17E5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72D0-B0AD-4751-997E-178D0C37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C4A-3C12-4B25-BF3F-A9BEBE02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FC3-0699-4BC2-A78B-F688228D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251-FFB4-486B-B6EA-06628547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3BE-8E03-49FB-A665-15F58D5F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F80-06C0-4D60-86F6-5F579B8F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F7E-04E9-4DC2-BD2E-4139F60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393-C2A2-4038-A5B7-BE92D8D5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E677-8D81-442C-9ACC-B8EA6C5AB641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1529-1E2A-4C4E-8FC4-457D6C74384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hammer.wav" TargetMode="External"/><Relationship Id="rId4" Type="http://schemas.microsoft.com/office/2007/relationships/media" Target="file:///tmp/home/.config/libreoffice/4/user/gallery/hammer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1.gif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audio" Target="../media/camera.wav"/><Relationship Id="rId7" Type="http://schemas.openxmlformats.org/officeDocument/2006/relationships/audio" Target="../media/cashreg.wav"/><Relationship Id="rId8" Type="http://schemas.openxmlformats.org/officeDocument/2006/relationships/audio" Target="../media/camera.wav"/><Relationship Id="rId9" Type="http://schemas.openxmlformats.org/officeDocument/2006/relationships/audio" Target="../media/cashreg.wav"/><Relationship Id="rId10" Type="http://schemas.openxmlformats.org/officeDocument/2006/relationships/audio" Target="../media/camera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67800" y="648180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365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0"/>
            <a:ext cx="889308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华文行楷"/>
              </a:rPr>
              <a:t>翻译词意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5105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981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明月什么时候才有呢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我举着酒杯仰问青天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。不知天宫中今晚又是哪一年？我真想驾乘着长风回到月宫，又怕那美玉砌成的宫殿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太高太寒冷了，让人禁受不了。在月光下起舞，影子也随人摇动，那月宫哪里比得上人间好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　月亮照过朱红色的楼阁，又低低照进了雕花的窗户，照着失眠的人。月亮对人世该没有什么怨恨吧，为什么总是在人们离别、孤独的时候变圆呢？人有悲欢离合，月有阴晴圆缺，这种事自古以来就很难周全。只希望亲人能健康长寿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虽然远隔千里也能共赏这美好月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705800" y="6496200"/>
            <a:ext cx="1438200" cy="36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解析全文，赏析重点词句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6271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11f5"/>
                </a:solidFill>
                <a:latin typeface="Arial"/>
              </a:rPr>
              <a:t>联想与想象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46240" y="242100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2133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11f5"/>
                </a:solidFill>
                <a:latin typeface="Arial"/>
              </a:rPr>
              <a:t>甲事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55840" y="1989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想   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2133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11f5"/>
                </a:solidFill>
                <a:latin typeface="Arial"/>
              </a:rPr>
              <a:t>乙事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2209680"/>
            <a:ext cx="502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2852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存在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月圆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)     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存在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人圆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4221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11f5"/>
                </a:solidFill>
                <a:latin typeface="Arial"/>
              </a:rPr>
              <a:t>甲事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1498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4960" y="4581360"/>
            <a:ext cx="2057400" cy="15264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4076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创造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42181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11f5"/>
                </a:solidFill>
                <a:latin typeface="Arial"/>
              </a:rPr>
              <a:t>乙事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74920" y="486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存在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明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)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不存在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天宫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05800" y="6496200"/>
            <a:ext cx="1438200" cy="361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144792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联想：由一事物想到另一事物的过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357336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想像：在原有形象的基础上创造出新形象的过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>
            <a:hlinkClick r:id="rId4" action="ppaction://hlinksldjump"/>
          </p:cNvPr>
          <p:cNvSpPr/>
          <p:nvPr/>
        </p:nvSpPr>
        <p:spPr>
          <a:xfrm>
            <a:off x="8317080" y="6237360"/>
            <a:ext cx="826920" cy="287280"/>
          </a:xfrm>
          <a:custGeom>
            <a:avLst/>
            <a:gdLst>
              <a:gd name="textAreaLeft" fmla="*/ 18360 w 826920"/>
              <a:gd name="textAreaRight" fmla="*/ 808560 w 826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124" h="21600">
                <a:moveTo>
                  <a:pt x="0" y="0"/>
                </a:moveTo>
                <a:lnTo>
                  <a:pt x="62124" y="0"/>
                </a:lnTo>
                <a:lnTo>
                  <a:pt x="62124" y="21600"/>
                </a:lnTo>
                <a:lnTo>
                  <a:pt x="0" y="21600"/>
                </a:lnTo>
                <a:close/>
              </a:path>
              <a:path fill="lightenLess" w="62124" h="21600">
                <a:moveTo>
                  <a:pt x="0" y="0"/>
                </a:moveTo>
                <a:lnTo>
                  <a:pt x="62124" y="0"/>
                </a:lnTo>
                <a:lnTo>
                  <a:pt x="60724" y="1400"/>
                </a:lnTo>
                <a:lnTo>
                  <a:pt x="1400" y="1400"/>
                </a:lnTo>
                <a:close/>
              </a:path>
              <a:path fill="darken" w="62124" h="21600">
                <a:moveTo>
                  <a:pt x="62124" y="0"/>
                </a:moveTo>
                <a:lnTo>
                  <a:pt x="62124" y="21600"/>
                </a:lnTo>
                <a:lnTo>
                  <a:pt x="60724" y="20200"/>
                </a:lnTo>
                <a:lnTo>
                  <a:pt x="60724" y="1400"/>
                </a:lnTo>
                <a:close/>
              </a:path>
              <a:path fill="darkenLess" w="62124" h="21600">
                <a:moveTo>
                  <a:pt x="62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724" y="20200"/>
                </a:lnTo>
                <a:close/>
              </a:path>
              <a:path fill="lighten" w="62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124" h="21600">
                <a:moveTo>
                  <a:pt x="24055" y="10800"/>
                </a:moveTo>
                <a:lnTo>
                  <a:pt x="38068" y="3794"/>
                </a:lnTo>
                <a:lnTo>
                  <a:pt x="38068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、这首词的上片和下片各写了什么内容？二者是什么关系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上片：望月写景，在“天上”“人间”徘徊矛盾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下片：对月抒怀，抒发对兄弟的美好祝愿和 思念及自己积极乐观、旷达的情怀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3645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文中哪些词语流露出作者思念亲人之苦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5373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转朱阁，低绮户，照无眠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3141720"/>
            <a:ext cx="41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借景抒情、情景交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、哪些语句是作者对人生的感悟？你从中读出什么？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1579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人有悲欢离合，月有阴晴圆缺，此事古难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2349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哲理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世界上不可能有永远圆满的事情，人生有欢聚，也必然有离别；这正是与月亮有圆时，也总有缺时一样，是原始自然界的规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3860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词中哪句话抒发了作者对亲人的思念和美好祝愿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229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但愿人长久，千里共婵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朝廷既留恋又恐惧的矛盾心情，在逆境中的自我慰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亲人的思念，对天下人的良好祝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人生的乐观旷达的态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兼怀子由”，作者“怀念”的情感有以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曾到过世界上将进三十个国家，我看过许许多多的月亮。在风光旖旎的瑞士莱芒湖上，在平沙无垠的非洲大沙漠中，在碧波万顷的大海中，在巍峨雄奇的高山上，我都看到过月亮。这些月亮应该说都是美妙绝伦的，我都异常喜欢。但是，看到他们，我立刻就想到我故乡中那个苇坑上面和水中的那个小月亮。对比之下，无论如何我也感到，这些广阔世界的大月亮，万万比不上我那心爱的小月亮。不管我离开我的故乡多少万里，我的心立刻就飞来了。我的小月亮，我永远忘不掉你！ 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季羡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0"/>
            <a:ext cx="883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  <a:ea typeface="隶书"/>
              </a:rPr>
              <a:t> </a:t>
            </a:r>
            <a:r>
              <a:rPr b="0" lang="zh-CN" sz="4800" spc="-1" strike="noStrike">
                <a:solidFill>
                  <a:srgbClr val="0033cc"/>
                </a:solidFill>
                <a:latin typeface="Times New Roman"/>
                <a:ea typeface="隶书"/>
              </a:rPr>
              <a:t>你能举出哪些有关“月”的诗词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1066680"/>
            <a:ext cx="8382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李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静夜思》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举头望明月，低头思故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4382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李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相见欢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无言独上西楼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月如钩，寂寞梧桐深院锁清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581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王昌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出塞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秦时明月汉时关，万里长征人未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572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李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月下独酌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举杯邀明月，对影成三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91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思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67480" y="2209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孤  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077320" y="30481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怀  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4800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孤  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陶渊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归园田居》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晨兴理荒秽，带月荷锄归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5791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安  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800600" y="304920"/>
            <a:ext cx="43434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828800"/>
            <a:ext cx="4343400" cy="15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3276720"/>
            <a:ext cx="43434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4876920"/>
            <a:ext cx="43434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5302080"/>
            <a:ext cx="4343400" cy="15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0"/>
            <a:ext cx="43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29720" y="1773360"/>
            <a:ext cx="4586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 rot="5400000">
            <a:off x="5291640" y="2205720"/>
            <a:ext cx="4969080" cy="179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水调歌头</a:t>
            </a:r>
            <a:endParaRPr b="0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4551840" y="3213000"/>
            <a:ext cx="2023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苏 轼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了解作者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4064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苏轼（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1037—1101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）字子瞻，自号东坡居士，眉州眉山（今属四川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人，北宋中期文坛领袖，唐宋八大家之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苏轼的学识广博，他开豪放词风，在散文、诗歌、词、书法和绘画等方面都很精工。民间有“苏文熟， 吃羊肉；苏文生，吃菜羹”一说。有《东坡乐府笺》流传于世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背景资料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这首词写于宋神宗熙宁九年（公元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07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，即丙辰年）中秋节夜晚。当时，苏轼正被贬为密州太守（今山东诸城县），他的弟弟苏辙（子由）也因与变法派意见不合，远在山东济南，此时兄弟二人已有六、七年没有相见了。此时，苏轼开怀畅饮直到天明，禁不住思绪万千，乘着酒兴，写下了这篇千古名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066680" y="838080"/>
            <a:ext cx="4251240" cy="3959280"/>
            <a:chOff x="1066680" y="838080"/>
            <a:chExt cx="4251240" cy="3959280"/>
          </a:xfrm>
        </p:grpSpPr>
        <p:sp>
          <p:nvSpPr>
            <p:cNvPr id="106" name=""/>
            <p:cNvSpPr/>
            <p:nvPr/>
          </p:nvSpPr>
          <p:spPr>
            <a:xfrm>
              <a:off x="1066680" y="838080"/>
              <a:ext cx="42512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33cc"/>
                  </a:solidFill>
                  <a:latin typeface="Times New Roman"/>
                  <a:ea typeface="华文新魏"/>
                </a:rPr>
                <a:t>     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6680" y="1600200"/>
              <a:ext cx="4251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66680" y="2239920"/>
              <a:ext cx="4251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2239920"/>
              <a:ext cx="42512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6680" y="2833560"/>
              <a:ext cx="42512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808080"/>
                  </a:solidFill>
                  <a:latin typeface="Times New Roman"/>
                </a:rPr>
                <a:t>　</a:t>
              </a:r>
              <a:endParaRPr b="0" lang="en-US" sz="9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3427200"/>
              <a:ext cx="4251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r>
                <a:rPr b="1" lang="zh-CN" sz="12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57200" y="1752480"/>
            <a:ext cx="72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丙辰中秋，欢饮达旦，大醉，作此篇，兼怀子由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349360"/>
            <a:ext cx="6019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               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明月几时有？把酒问青天。不知天上宫阙，今夕是何年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我欲乘风归去，又恐琼楼玉宇，高处不胜寒。起舞弄清影，何似在人间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转朱阁，低绮户，照无眠。不应有恨，何事长向别时圆？人有悲欢离合，月有阴晴圆缺，此事古难全。但愿人长久，千里共婵娟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692280"/>
            <a:ext cx="4419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水调歌头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   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3831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23920" y="2971800"/>
            <a:ext cx="505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序言中，“中秋”、“兼怀子由”，透露了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本词的时间和目的。当时苏轼任密州太守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政治上失意，苏轼的弟弟子由被贬谪到离苏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数百公里的山东济南，兄弟七年没有见面。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月思亲，心情抑郁惆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6094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题解及写作背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762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057400"/>
            <a:ext cx="714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120" y="2201760"/>
            <a:ext cx="706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5238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调歌头，是词牌名，其作用是规定一首词每句的字数、平仄等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260280"/>
            <a:ext cx="754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检查课前预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一、给标出的字注音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62864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宫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阙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    ）   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琼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楼（     ）   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绮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户（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婵娟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       ）不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寒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丙辰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295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1700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qu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371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1628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qió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162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q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276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chán juā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276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shēng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22766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bǐng chén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666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二、解释下列词语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352680"/>
            <a:ext cx="6553440" cy="38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把：                               朱阁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不胜寒：                       绮户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无眠：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何似：  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何事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婵娟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35268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持；端着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35268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朱红的楼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96252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禁不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3962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雕花的窗户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457200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难以成眠的人，这里指作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257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哪里比得上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4724280"/>
            <a:ext cx="5140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指月亮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2492280"/>
            <a:ext cx="13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52689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为什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1066680" y="838080"/>
            <a:ext cx="4251240" cy="3959280"/>
            <a:chOff x="1066680" y="838080"/>
            <a:chExt cx="4251240" cy="3959280"/>
          </a:xfrm>
        </p:grpSpPr>
        <p:sp>
          <p:nvSpPr>
            <p:cNvPr id="147" name=""/>
            <p:cNvSpPr/>
            <p:nvPr/>
          </p:nvSpPr>
          <p:spPr>
            <a:xfrm>
              <a:off x="1066680" y="838080"/>
              <a:ext cx="42512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33cc"/>
                  </a:solidFill>
                  <a:latin typeface="Times New Roman"/>
                  <a:ea typeface="华文新魏"/>
                </a:rPr>
                <a:t>     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1600200"/>
              <a:ext cx="4251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6680" y="2239920"/>
              <a:ext cx="4251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2239920"/>
              <a:ext cx="42512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6680" y="2833560"/>
              <a:ext cx="42512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808080"/>
                  </a:solidFill>
                  <a:latin typeface="Times New Roman"/>
                </a:rPr>
                <a:t>　</a:t>
              </a:r>
              <a:endParaRPr b="0" lang="en-US" sz="9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3427200"/>
              <a:ext cx="4251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r>
                <a:rPr b="1" lang="zh-CN" sz="12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0" y="1413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</a:rPr>
              <a:t>朗读课文，整体感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228600"/>
            <a:ext cx="914400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　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水 调 歌 头（宋）苏轼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丙辰中秋，欢饮达旦，大醉，作此篇，兼怀子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　　明月几时有？把酒问青天。不知天上宫阙，今夕是何年。我欲乘风归去，又恐琼楼玉宇，高处不胜寒。起舞弄清影，何似在人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　　转朱阁，低绮户，照无眠。不应有恨，何事长向别时圆？人有悲欢离合，月有阴晴圆缺，此事古难全。但愿人长久，千里共婵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998" h="21600">
                <a:moveTo>
                  <a:pt x="1249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998" h="21600">
                <a:moveTo>
                  <a:pt x="9923" y="8224"/>
                </a:moveTo>
                <a:lnTo>
                  <a:pt x="13787" y="8224"/>
                </a:lnTo>
                <a:lnTo>
                  <a:pt x="13787" y="15221"/>
                </a:lnTo>
                <a:lnTo>
                  <a:pt x="15075" y="15221"/>
                </a:lnTo>
                <a:lnTo>
                  <a:pt x="15075" y="16144"/>
                </a:lnTo>
                <a:lnTo>
                  <a:pt x="9923" y="16144"/>
                </a:lnTo>
                <a:lnTo>
                  <a:pt x="9923" y="15221"/>
                </a:lnTo>
                <a:lnTo>
                  <a:pt x="11211" y="15221"/>
                </a:lnTo>
                <a:lnTo>
                  <a:pt x="11211" y="9129"/>
                </a:lnTo>
                <a:lnTo>
                  <a:pt x="9923" y="912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1052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112536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94560" y="1052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052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2276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2276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2276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400536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71640" y="400536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393372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400536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94560" y="3933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852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2852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278136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3284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335772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59280" y="3284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4508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1640" y="4508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5084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494172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8000" y="501336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238319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3:29:55Z</dcterms:created>
  <dc:creator>liuchunyan</dc:creator>
  <dc:description/>
  <dc:language>en-US</dc:language>
  <cp:lastModifiedBy>liuchunyan</cp:lastModifiedBy>
  <dcterms:modified xsi:type="dcterms:W3CDTF">2014-04-01T14:12:4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