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87E77-4C4A-4126-BE29-B56ADFC77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D7E6E-A599-43B6-80B0-AA40AE2F1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E4048-7CF1-4EC1-96F0-343AF9C92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8FA15-95D7-47DC-AF08-06A765682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F04B9-2ED6-4981-82F2-F27AB1D67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539DC-28B2-4635-B829-8C67AAC2C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99273-ECE3-40DB-A495-032DC5531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F7B29-15AA-4188-B47D-DCAB93B49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0F3E5-2680-494B-A178-5A75CC318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B5AF6-42EF-4464-AEAA-F193DD619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3A2CB-372D-44F1-8BC1-D9770A0FB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B4D88-44D3-48C2-84BC-8AF6089B8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AD6C3-F0C8-439D-90FA-F1D48F4C59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晋侯、秦伯围郑，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以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其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无礼于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晋，且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贰于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也。晋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军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函陵，秦军氾南。佚之狐言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于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郑伯曰：“国危矣，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若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使烛之武见秦君，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必退。”公从之。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辞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曰：“臣之壮也，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犹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不如人；今老矣，无能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为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也已。”公曰：“吾不能早用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子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今急而求子，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是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寡人之过也。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然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郑亡，子亦有不利焉！”许之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缒而出。见秦伯曰：“秦、晋围郑，郑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既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知亡矣。若亡郑而有益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于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君，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敢以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烦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执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越国以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鄙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远，君知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其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难也。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焉用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亡郑以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陪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邻？邻之厚，君之薄也。若 舍郑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以为东道主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行李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之往来，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共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其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乏困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君亦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无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害。且君尝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为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晋君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赐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矣；许君焦、瑕，朝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济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而夕设版焉，（）君之所知也。夫晋，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何厌之有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？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既东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郑、又欲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肆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其西封，若不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阙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秦，将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焉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取之？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阙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秦以利晋，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唯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君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图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之。”秦伯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说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与郑人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盟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使杞子、逢孙、杨孙戍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乃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还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子犯请击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公曰：“不可。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微夫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人之力不及此。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因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人之力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而敝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之，不仁；失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其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所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与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不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知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；以乱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易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整，不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武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吾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其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还也。”亦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去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2"/>
          <p:cNvSpPr/>
          <p:nvPr/>
        </p:nvSpPr>
        <p:spPr>
          <a:xfrm>
            <a:off x="212760" y="244440"/>
            <a:ext cx="8931240" cy="39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以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其无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礼于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晋，且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贰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于楚也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若亡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郑而有益于君，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敢以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烦执事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越国以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鄙远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君知其难也。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焉用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亡郑以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陪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邻？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若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舍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郑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以为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东道主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Arial"/>
              </a:rPr>
              <a:t>行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李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之往来，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共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其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乏困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君亦无所害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夫晋，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何厌之有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？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既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东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封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郑、又欲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肆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其西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封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，若不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阙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秦，将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焉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取之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微夫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人之力不及此。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因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人之力而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敝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之，不仁；失其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所与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不知；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以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乱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易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整，不武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吾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其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还也！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Arial"/>
                <a:ea typeface="黑体"/>
              </a:rPr>
              <a:t>一、复习检查翻译句子</a:t>
            </a:r>
            <a:br>
              <a:rPr sz="3800"/>
            </a:b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2280" y="1447560"/>
            <a:ext cx="86868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4700" spc="-1" strike="noStrike">
                <a:solidFill>
                  <a:srgbClr val="000000"/>
                </a:solidFill>
                <a:latin typeface="黑体"/>
                <a:ea typeface="黑体"/>
              </a:rPr>
              <a:t>、晋侯、秦伯围郑，</a:t>
            </a:r>
            <a:r>
              <a:rPr b="0" lang="zh-CN" sz="4700" spc="-1" strike="noStrike">
                <a:solidFill>
                  <a:srgbClr val="ff0000"/>
                </a:solidFill>
                <a:latin typeface="黑体"/>
                <a:ea typeface="黑体"/>
              </a:rPr>
              <a:t>以</a:t>
            </a:r>
            <a:r>
              <a:rPr b="0" lang="zh-CN" sz="4700" spc="-1" strike="noStrike">
                <a:solidFill>
                  <a:srgbClr val="000000"/>
                </a:solidFill>
                <a:latin typeface="黑体"/>
                <a:ea typeface="黑体"/>
              </a:rPr>
              <a:t>其无礼于晋，且</a:t>
            </a:r>
            <a:r>
              <a:rPr b="0" lang="zh-CN" sz="4700" spc="-1" strike="noStrike">
                <a:solidFill>
                  <a:srgbClr val="ff0000"/>
                </a:solidFill>
                <a:latin typeface="黑体"/>
                <a:ea typeface="黑体"/>
              </a:rPr>
              <a:t>贰</a:t>
            </a:r>
            <a:r>
              <a:rPr b="0" lang="zh-CN" sz="4700" spc="-1" strike="noStrike">
                <a:solidFill>
                  <a:srgbClr val="000000"/>
                </a:solidFill>
                <a:latin typeface="黑体"/>
                <a:ea typeface="黑体"/>
              </a:rPr>
              <a:t>于楚也。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5"/>
          <p:cNvSpPr/>
          <p:nvPr/>
        </p:nvSpPr>
        <p:spPr>
          <a:xfrm>
            <a:off x="441360" y="26128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7"/>
          <p:cNvSpPr/>
          <p:nvPr/>
        </p:nvSpPr>
        <p:spPr>
          <a:xfrm>
            <a:off x="533520" y="3429000"/>
            <a:ext cx="8381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  <a:ea typeface="黑体"/>
              </a:rPr>
              <a:t>      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晋文公和秦穆公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围攻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郑国，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因为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郑国曾对晋国没有以礼相待，并且对晋国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怀有二心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而亲近楚国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10"/>
          <p:cNvSpPr/>
          <p:nvPr/>
        </p:nvSpPr>
        <p:spPr>
          <a:xfrm>
            <a:off x="304920" y="533520"/>
            <a:ext cx="8610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4800" spc="-1" strike="noStrike">
                <a:solidFill>
                  <a:srgbClr val="ff0000"/>
                </a:solidFill>
                <a:latin typeface="Arial"/>
                <a:ea typeface="黑体"/>
              </a:rPr>
              <a:t>越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国以</a:t>
            </a:r>
            <a:r>
              <a:rPr b="0" lang="zh-CN" sz="4800" spc="-1" strike="noStrike">
                <a:solidFill>
                  <a:srgbClr val="ff0000"/>
                </a:solidFill>
                <a:latin typeface="Arial"/>
                <a:ea typeface="黑体"/>
              </a:rPr>
              <a:t>鄙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远，君知其难也，</a:t>
            </a:r>
            <a:r>
              <a:rPr b="0" lang="zh-CN" sz="4800" spc="-1" strike="noStrike">
                <a:solidFill>
                  <a:srgbClr val="ff0000"/>
                </a:solidFill>
                <a:latin typeface="Arial"/>
                <a:ea typeface="黑体"/>
              </a:rPr>
              <a:t>焉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用亡郑以</a:t>
            </a:r>
            <a:r>
              <a:rPr b="0" lang="zh-CN" sz="4800" spc="-1" strike="noStrike">
                <a:solidFill>
                  <a:srgbClr val="ff0000"/>
                </a:solidFill>
                <a:latin typeface="Arial"/>
                <a:ea typeface="黑体"/>
              </a:rPr>
              <a:t>陪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邻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5"/>
          <p:cNvSpPr/>
          <p:nvPr/>
        </p:nvSpPr>
        <p:spPr>
          <a:xfrm>
            <a:off x="0" y="2743200"/>
            <a:ext cx="93726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  <a:ea typeface="黑体"/>
              </a:rPr>
              <a:t>  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越过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晋国而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把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远方的郑国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作为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秦国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东部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边境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，您知道这是很困难的。为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么要灭掉郑国来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增加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邻国的土地呢？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4"/>
          <p:cNvSpPr/>
          <p:nvPr/>
        </p:nvSpPr>
        <p:spPr>
          <a:xfrm>
            <a:off x="2237400" y="457200"/>
            <a:ext cx="4929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、若舍郑</a:t>
            </a:r>
            <a:r>
              <a:rPr b="0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以为</a:t>
            </a: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东道主，</a:t>
            </a:r>
            <a:r>
              <a:rPr b="0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行李</a:t>
            </a: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之往来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共其</a:t>
            </a:r>
            <a:r>
              <a:rPr b="0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乏困</a:t>
            </a: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，君亦无所害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1728720" y="2670120"/>
            <a:ext cx="53625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如果放弃攻打郑国，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把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它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作为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您东方道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路上的主人，（贵国）使臣来往经过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供应他们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缺乏的东西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，这对您也没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什么坏处。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6"/>
          <p:cNvSpPr/>
          <p:nvPr/>
        </p:nvSpPr>
        <p:spPr>
          <a:xfrm>
            <a:off x="2792520" y="228600"/>
            <a:ext cx="2835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既东</a:t>
            </a: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封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郑、又欲</a:t>
            </a: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肆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其西封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7"/>
          <p:cNvSpPr/>
          <p:nvPr/>
        </p:nvSpPr>
        <p:spPr>
          <a:xfrm>
            <a:off x="0" y="990720"/>
            <a:ext cx="9282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晋国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使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郑国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成为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东边的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疆界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后，又要扩张它西边的疆界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1838520" y="2819520"/>
            <a:ext cx="4926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阙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秦以利晋，唯君</a:t>
            </a: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图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之</a:t>
            </a:r>
            <a:r>
              <a:rPr b="0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9"/>
          <p:cNvSpPr/>
          <p:nvPr/>
        </p:nvSpPr>
        <p:spPr>
          <a:xfrm>
            <a:off x="152280" y="38098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损害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秦国而有利于晋国，希望您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考虑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这件事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4"/>
          <p:cNvSpPr/>
          <p:nvPr/>
        </p:nvSpPr>
        <p:spPr>
          <a:xfrm>
            <a:off x="1745280" y="1143000"/>
            <a:ext cx="5694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因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人之力而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敝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之，不仁；失其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所与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不知；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以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乱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易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整，不武。吾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其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还也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1821600" y="2690640"/>
            <a:ext cx="5785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依靠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他人的力量却去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损害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他，是不仁的；失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自己的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同盟国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是不明智的；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用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混乱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代替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整齐，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不符合武德的。吾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还是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回去吧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0-13T02:08:14Z</dcterms:created>
  <dc:creator>User</dc:creator>
  <dc:description/>
  <dc:language>en-US</dc:language>
  <cp:lastModifiedBy>Administrator</cp:lastModifiedBy>
  <dcterms:modified xsi:type="dcterms:W3CDTF">2017-01-04T01:03:17Z</dcterms:modified>
  <cp:revision>9</cp:revision>
  <dc:subject/>
  <dc:title>幻灯片 1</dc:title>
</cp:coreProperties>
</file>