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3885-B629-4DD5-A294-A76A6269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49C-493E-44FE-AE45-4BA8043A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29D-8E93-4F80-9807-FD362718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7C2-3F24-4907-8383-B42778E7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0C6-7C73-44CD-908B-55BDC4C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CE2-CC64-47A6-9C78-4A33743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254-9EA1-4370-A08B-A1FE5886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2A6-AE93-4E14-BE51-3005EA01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017-3909-4D82-965E-FD67248E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132-9EBB-4480-828A-0DA8308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58B-2FC6-4AF2-ABC1-24B8BA48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848-9DD8-482F-83A6-EFB31856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A99-A490-4130-990A-6133A4ED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侯、秦伯围郑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礼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，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贰于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。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函陵，秦军氾南。佚之狐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伯曰：“国危矣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烛之武见秦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退。”公从之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曰：“臣之壮也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如人；今老矣，无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已。”公曰：“吾不能早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今急而求子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寡人之过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亡，子亦有不利焉！”许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缒而出。见秦伯曰：“秦、晋围郑，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亡矣。若亡郑而有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敢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越国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远，君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亡郑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邻？邻之厚，君之薄也。若 舍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行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往来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乏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君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害。且君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矣；许君焦、瑕，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夕设版焉，（）君之所知也。夫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何厌之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既东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、又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西封，若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，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之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以利晋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。”秦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与郑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使杞子、逢孙、杨孙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子犯请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公曰：“不可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微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力不及此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，不仁；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以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，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也。”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12760" y="244440"/>
            <a:ext cx="89312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礼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晋，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楚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若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郑而有益于君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敢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烦执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越国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鄙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君知其难也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焉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亡郑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东道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往来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乏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君亦无所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夫晋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何厌之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郑、又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若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秦，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取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微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之力不及此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之力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，不仁；失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知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，不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黑体"/>
              </a:rPr>
              <a:t>一、复习检查翻译句子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、晋侯、秦伯围郑，</a:t>
            </a:r>
            <a:r>
              <a:rPr b="0" lang="zh-CN" sz="4700" spc="-1" strike="noStrike">
                <a:solidFill>
                  <a:srgbClr val="ff0000"/>
                </a:solidFill>
                <a:latin typeface="黑体"/>
                <a:ea typeface="黑体"/>
              </a:rPr>
              <a:t>以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其无礼于晋，且</a:t>
            </a:r>
            <a:r>
              <a:rPr b="0" lang="zh-CN" sz="4700" spc="-1" strike="noStrike">
                <a:solidFill>
                  <a:srgbClr val="ff0000"/>
                </a:solidFill>
                <a:latin typeface="黑体"/>
                <a:ea typeface="黑体"/>
              </a:rPr>
              <a:t>贰</a:t>
            </a:r>
            <a:r>
              <a:rPr b="0" lang="zh-CN" sz="4700" spc="-1" strike="noStrike">
                <a:solidFill>
                  <a:srgbClr val="000000"/>
                </a:solidFill>
                <a:latin typeface="黑体"/>
                <a:ea typeface="黑体"/>
              </a:rPr>
              <a:t>于楚也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1360" y="26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33520" y="34290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晋文公和秦穆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围攻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郑国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因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郑国曾对晋国没有以礼相待，并且对晋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怀有二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而亲近楚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304920" y="5335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越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国以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鄙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远，君知其难也，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用亡郑以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陪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0" y="2743200"/>
            <a:ext cx="937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越过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晋国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远方的郑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秦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东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边境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，您知道这是很困难的。为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么要灭掉郑国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增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邻国的土地呢？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237400" y="4572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若舍郑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以为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东道主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行李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之往来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共其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乏困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君亦无所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728720" y="2670120"/>
            <a:ext cx="53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如果放弃攻打郑国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把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作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您东方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路上的主人，（贵国）使臣来往经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供应他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缺乏的东西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，这对您也没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什么坏处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2792520" y="228600"/>
            <a:ext cx="283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既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封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郑、又欲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肆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其西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990720"/>
            <a:ext cx="92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晋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郑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东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疆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后，又要扩张它西边的疆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838520" y="2819520"/>
            <a:ext cx="49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阙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秦以利晋，唯君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图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52280" y="38098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损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秦国而有利于晋国，希望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考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这件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45280" y="1143000"/>
            <a:ext cx="569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之力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之，不仁；失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所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知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整，不武。吾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821600" y="2690640"/>
            <a:ext cx="57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依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人的力量却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损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，是不仁的；失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盟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不明智的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混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代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整齐，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符合武德的。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02:08:14Z</dcterms:created>
  <dc:creator>User</dc:creator>
  <dc:description/>
  <dc:language>en-US</dc:language>
  <cp:lastModifiedBy>Administrator</cp:lastModifiedBy>
  <dcterms:modified xsi:type="dcterms:W3CDTF">2017-01-04T01:03:17Z</dcterms:modified>
  <cp:revision>9</cp:revision>
  <dc:subject/>
  <dc:title>幻灯片 1</dc:title>
</cp:coreProperties>
</file>