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8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2FD-8B47-4798-A24F-BA337967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969-C7EF-4FAE-8F31-ADF984E5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A569-0B1F-4F79-B0A1-09468FDF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918-6E92-4A6A-A708-25CD1358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0F14-C678-42D7-BCBE-2F6CD8C6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FA76-CB6D-41AB-B1BE-A700EF47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B5CC-B65E-43CE-8944-B725D9F0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7F2-08EC-424A-A14F-792F06D9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1AB-9F4A-4D2D-83FC-64CBAEEA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BAF-F8E6-41B0-96C8-2F1AC8D5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235-6819-41BD-AA1E-DDA3CF4F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F98-600B-44BA-8170-7CEDE330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ACEC-E0E5-4664-A843-95577370C9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hu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ǒ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b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n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三个小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伙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265572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940360" y="1484280"/>
            <a:ext cx="2754360" cy="3263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556000" y="1700280"/>
            <a:ext cx="3241440" cy="3313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227640" y="5445000"/>
            <a:ext cx="190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3000" y="4941720"/>
            <a:ext cx="23706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yě  zh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野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12680" y="5084640"/>
            <a:ext cx="302904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dài sh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 袋 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476280"/>
            <a:ext cx="7272360" cy="29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小树栽好啦！三个小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l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伴手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着手，围着小树又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又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22960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huǒbàn  yì tónɡ  méi yǒu  bú y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伙 伴    一 同   没  有  不  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zu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ǐ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b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ɑ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jiù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ǎ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嘴 巴     就    把     手拉着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chú tou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ǒ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ng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chu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luóku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ā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ng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b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í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锄  头       拱    出      箩   筐      鼻 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22960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我会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伙伴    一同    没有   不要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嘴巴    就    把    手拉着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锄头    拱出    箩筐   鼻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硬硬的嘴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个皮口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长长的鼻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8431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他们遇到了什么困难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62864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没有锄头挖树坑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0751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没有箩筐运肥料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465948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没有水桶浇水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71640" y="2349360"/>
            <a:ext cx="7596000" cy="3593880"/>
            <a:chOff x="971640" y="2349360"/>
            <a:chExt cx="7596000" cy="3593880"/>
          </a:xfrm>
        </p:grpSpPr>
        <p:sp>
          <p:nvSpPr>
            <p:cNvPr id="80" name=""/>
            <p:cNvSpPr/>
            <p:nvPr/>
          </p:nvSpPr>
          <p:spPr>
            <a:xfrm>
              <a:off x="971640" y="2349360"/>
              <a:ext cx="752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(  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小野猪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  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)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用（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硬硬的嘴巴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）挖树坑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42920" y="3860640"/>
              <a:ext cx="752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(  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小袋鼠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)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用（ 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皮口袋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）运肥料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42920" y="5300640"/>
              <a:ext cx="752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(  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小象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)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用（ 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长长的鼻子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）浇水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硬硬的嘴巴              小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个皮口袋              小袋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长长的鼻子             小野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2060640"/>
            <a:ext cx="1800000" cy="25923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635280" y="3499920"/>
            <a:ext cx="165744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635280" y="2133720"/>
            <a:ext cx="1657440" cy="273528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硬硬的嘴巴              小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个皮口袋              小袋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长长的鼻子             小野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71640" y="8431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他们遇到了什么困难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162864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没有锄头挖树坑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30751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没有箩筐运肥料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465948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没有水桶浇水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71640" y="2349360"/>
            <a:ext cx="7596000" cy="3593880"/>
            <a:chOff x="971640" y="2349360"/>
            <a:chExt cx="7596000" cy="3593880"/>
          </a:xfrm>
        </p:grpSpPr>
        <p:sp>
          <p:nvSpPr>
            <p:cNvPr id="95" name=""/>
            <p:cNvSpPr/>
            <p:nvPr/>
          </p:nvSpPr>
          <p:spPr>
            <a:xfrm>
              <a:off x="971640" y="2349360"/>
              <a:ext cx="752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(  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谁     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)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用（　　　　　）挖树坑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42920" y="3860640"/>
              <a:ext cx="752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(  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谁     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)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用（　　　　　）运肥料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42920" y="5300640"/>
              <a:ext cx="752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(  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谁     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)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用（　　　　　）浇水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个小伙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659640" y="5373360"/>
            <a:ext cx="23032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68360" y="4005360"/>
            <a:ext cx="7524720" cy="20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小野猪、小象和小袋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tón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上山栽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4005360"/>
            <a:ext cx="752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小野猪、小象和小袋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上山栽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71640" y="8431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他们遇到了什么困难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484280"/>
            <a:ext cx="9720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méi      ch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没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有锄头挖树坑怎么办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429000"/>
            <a:ext cx="10188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luó kuā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没有箩 筐   运肥料怎么办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084640"/>
            <a:ext cx="83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没有水桶浇水怎么办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40280" y="216000"/>
            <a:ext cx="4472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yà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紧，不要紧，我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zuǐ 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硬硬的嘴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08000" y="2924280"/>
            <a:ext cx="6732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要紧，不要紧，我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个皮口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44040" y="4965840"/>
            <a:ext cx="399672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要紧，不要紧，我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b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长长的鼻 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3560760" cy="403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52720" y="1262160"/>
            <a:ext cx="5112000" cy="27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野猪说：“不要紧，不要紧，我有硬硬的嘴巴。”不一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ji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儿，小野猪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用嘴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ǒ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n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拱    出了一个树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1477800"/>
            <a:ext cx="5473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袋鼠说：“不要紧，不要紧，我有一个皮口袋。”不一会儿，小袋鼠就用皮口袋运来了一堆肥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33216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1477800"/>
            <a:ext cx="532908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象说：“不要紧，不要紧，我有长长的鼻子。”小象跑到小河边，用长鼻子吸足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b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水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树坑得湿湿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425920" y="1413000"/>
            <a:ext cx="37418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05:33:12Z</dcterms:created>
  <dc:creator>User</dc:creator>
  <dc:description/>
  <dc:language>en-US</dc:language>
  <cp:lastModifiedBy>USER</cp:lastModifiedBy>
  <dcterms:modified xsi:type="dcterms:W3CDTF">2013-05-18T07:43:45Z</dcterms:modified>
  <cp:revision>18</cp:revision>
  <dc:subject/>
  <dc:title>19  三个小伙伴</dc:title>
</cp:coreProperties>
</file>