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59A-CC60-4831-AFC4-3135C045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C6A-A069-4023-859F-0336127A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16E-230E-4B67-A232-05AB8060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BA4-80D1-4208-986D-35BBB618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B3A-3979-4DFB-A5EF-1A9B1716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958-CC41-493D-9982-E407631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EAD-70D1-4B80-9088-C1844BC6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C4E-B1BB-4C98-A723-5108D33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D53-1308-47A7-9AC0-A246212D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28E-0386-4F9E-ABEB-57233F92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13E-9AFD-4DC8-8C7E-A3113D1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3B4-89E4-445C-8522-871DE270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2A7-CEB9-45FC-A579-D3006947B6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00480" y="1447920"/>
            <a:ext cx="4852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自己试一试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514600" y="2133720"/>
            <a:ext cx="5181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错误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124080" y="1981080"/>
            <a:ext cx="36576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正确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819520" y="1905120"/>
            <a:ext cx="3962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590920" y="1981080"/>
            <a:ext cx="3581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提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666880" y="1905120"/>
            <a:ext cx="3810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校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971800" y="1981080"/>
            <a:ext cx="42670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颗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666880" y="2057400"/>
            <a:ext cx="4191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觉得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666880" y="1905120"/>
            <a:ext cx="40388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用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59040" y="990720"/>
            <a:ext cx="3838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依伦娜明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了科学家的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么用意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46400" y="496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10040" y="14875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既然想不明白，为什么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己去试一试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6120" y="332280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既然想不明白，就应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己去试一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14600" y="1828800"/>
            <a:ext cx="51055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科学家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14880" y="779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68600" y="1523880"/>
            <a:ext cx="3952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为什么你会认为科学家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话全都是正确的呢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你不应该认为科学家的话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全都是正确的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828800" y="16765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鱼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14600" y="1752480"/>
            <a:ext cx="51814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漫出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52480" y="1600200"/>
            <a:ext cx="5562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鱼鳞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981080" y="1600200"/>
            <a:ext cx="5943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夹在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590920" y="1752480"/>
            <a:ext cx="48765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既然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362320" y="1676520"/>
            <a:ext cx="51051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刹那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209680" y="1447920"/>
            <a:ext cx="5181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方案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3-16T14:45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