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D05D-CF99-4983-846B-4E3FC48A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E5BB-BDE4-4591-8D5D-28AD12BC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CD61-653E-47E9-8DCE-BA46461D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7DB8-A20C-446B-A252-69EE351F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1544-C41C-4C1E-96E3-F614A2E55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CC6C-57CB-43B1-91F1-686BB239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8F34-1813-4E86-B9F7-D2E6D8EB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9B3B-400A-41F3-83DF-75103ED4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F42F-8C51-4320-8FF7-AD155663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67C4-1EA2-4BEE-86EB-4C1B09CB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139B-95DB-42BC-8061-3D28835C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EB36-2C1E-4DBF-AC01-B0E5F085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B943-A0CF-4911-AB64-806D021C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BD1A-7E01-4155-8EA4-B94865B3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8B9E-8092-462E-A0EB-BDC14F9A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88B9-EFE9-4B2B-9FC6-C9FA37FE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F2BB-0F83-4AD6-B71A-C30F3522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ACB6-BC5F-4FE3-9D07-4324E89E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BCF1-3019-4D68-A15A-9B84B6BF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D221-E562-4E40-A8C9-9AD0E7F4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611C-9326-4CC4-A3D9-537C8904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04E1-2A71-48DB-94EB-4ECF3A13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8E33-55F6-4F38-A04D-DA340533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38B1-6F4E-4BFE-AD44-7DFD0C02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482F-24F9-468B-BA3F-192077A920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90A0-8F9B-428E-88A9-384BF1E657F3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24605;&#24819;&#20869;&#23481;&#19968;&#8212;&#8212;&#20240;&#27264;.ppt" TargetMode="External"/><Relationship Id="rId2" Type="http://schemas.openxmlformats.org/officeDocument/2006/relationships/hyperlink" Target="file:///&#24605;&#24819;&#20869;&#23481;&#20108;&#8212;&#8212;&#38745;&#22899;.ppt" TargetMode="External"/><Relationship Id="rId3" Type="http://schemas.openxmlformats.org/officeDocument/2006/relationships/hyperlink" Target="file:///&#24605;&#24819;&#20869;&#23481;&#19977;&#8212;&#8212;&#26080;&#34915;.ppt" TargetMode="External"/><Relationship Id="rId4" Type="http://schemas.openxmlformats.org/officeDocument/2006/relationships/hyperlink" Target="file:///&#12298;&#35799;&#32463;&#12299;&#19977;&#39318;&#20998;&#26512;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7920" y="0"/>
            <a:ext cx="739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3300"/>
                </a:solidFill>
                <a:latin typeface="Times New Roman"/>
                <a:ea typeface="幼圆"/>
              </a:rPr>
              <a:t>           </a:t>
            </a:r>
            <a:r>
              <a:rPr b="1" lang="zh-CN" sz="6000" spc="-1" strike="noStrike">
                <a:solidFill>
                  <a:srgbClr val="663300"/>
                </a:solidFill>
                <a:latin typeface="Times New Roman"/>
                <a:ea typeface="幼圆"/>
              </a:rPr>
              <a:t>《诗经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1447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《诗经》是我国第一部诗歌总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3505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内容：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风    雅    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4343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形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四言为主，重章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51814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手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赋   比    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19810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收入从西周到春秋时期的诗歌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305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2590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汉以前被称为《诗》或《诗三百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373392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61722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《诗经》是我国古典诗歌现实主义的源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1905120"/>
            <a:ext cx="838080" cy="0"/>
          </a:xfrm>
          <a:prstGeom prst="line">
            <a:avLst/>
          </a:prstGeom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2438280"/>
            <a:ext cx="609840" cy="0"/>
          </a:xfrm>
          <a:prstGeom prst="line">
            <a:avLst/>
          </a:prstGeom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3048120"/>
            <a:ext cx="304560" cy="0"/>
          </a:xfrm>
          <a:prstGeom prst="line">
            <a:avLst/>
          </a:prstGeom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3048120"/>
            <a:ext cx="685800" cy="0"/>
          </a:xfrm>
          <a:prstGeom prst="line">
            <a:avLst/>
          </a:prstGeom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048120"/>
            <a:ext cx="1143000" cy="0"/>
          </a:xfrm>
          <a:prstGeom prst="line">
            <a:avLst/>
          </a:prstGeom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3962520"/>
            <a:ext cx="2209680" cy="0"/>
          </a:xfrm>
          <a:prstGeom prst="line">
            <a:avLst/>
          </a:prstGeom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6629400"/>
            <a:ext cx="1219320" cy="0"/>
          </a:xfrm>
          <a:prstGeom prst="line">
            <a:avLst/>
          </a:prstGeom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4800600"/>
            <a:ext cx="2667240" cy="0"/>
          </a:xfrm>
          <a:prstGeom prst="line">
            <a:avLst/>
          </a:prstGeom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5638680"/>
            <a:ext cx="1981080" cy="0"/>
          </a:xfrm>
          <a:prstGeom prst="line">
            <a:avLst/>
          </a:prstGeom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2438280"/>
            <a:ext cx="1523880" cy="0"/>
          </a:xfrm>
          <a:prstGeom prst="line">
            <a:avLst/>
          </a:prstGeom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1600200"/>
            <a:ext cx="228600" cy="228600"/>
          </a:xfrm>
          <a:prstGeom prst="ellips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2133720"/>
            <a:ext cx="228600" cy="228600"/>
          </a:xfrm>
          <a:prstGeom prst="ellips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2743200"/>
            <a:ext cx="228600" cy="228600"/>
          </a:xfrm>
          <a:prstGeom prst="ellips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4648320"/>
            <a:ext cx="228600" cy="228600"/>
          </a:xfrm>
          <a:prstGeom prst="ellips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6324480"/>
            <a:ext cx="228600" cy="228600"/>
          </a:xfrm>
          <a:prstGeom prst="ellips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57400" y="45720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Times New Roman"/>
                <a:ea typeface="华文隶书"/>
              </a:rPr>
              <a:t>《诗经》的思想内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1"/>
          </p:cNvPr>
          <p:cNvSpPr/>
          <p:nvPr/>
        </p:nvSpPr>
        <p:spPr>
          <a:xfrm>
            <a:off x="1523880" y="1828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  <a:ea typeface="隶书"/>
              </a:rPr>
              <a:t>一、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隶书"/>
              </a:rPr>
              <a:t>反映奴隶们对剥削压迫的不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2"/>
          </p:cNvPr>
          <p:cNvSpPr/>
          <p:nvPr/>
        </p:nvSpPr>
        <p:spPr>
          <a:xfrm>
            <a:off x="1523880" y="2895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隶书"/>
              </a:rPr>
              <a:t>二、反映当时的婚姻生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3"/>
          </p:cNvPr>
          <p:cNvSpPr/>
          <p:nvPr/>
        </p:nvSpPr>
        <p:spPr>
          <a:xfrm>
            <a:off x="1523880" y="39625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隶书"/>
              </a:rPr>
              <a:t>三、反映当时的战争徭役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50292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3200" spc="-1" strike="noStrike">
                <a:solidFill>
                  <a:srgbClr val="663300"/>
                </a:solidFill>
                <a:latin typeface="Verdana"/>
              </a:rPr>
              <a:t>现实主义诗篇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5638680"/>
            <a:ext cx="259056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6019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Verdana"/>
                <a:ea typeface="方正舒体"/>
              </a:rPr>
              <a:t>（饥者歌其食，劳者歌其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4"/>
          </p:cNvPr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e9e2b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00:39:50Z</dcterms:created>
  <dc:creator>founder</dc:creator>
  <dc:description/>
  <dc:language>en-US</dc:language>
  <cp:lastModifiedBy>founder</cp:lastModifiedBy>
  <dcterms:modified xsi:type="dcterms:W3CDTF">2002-08-28T04:57:04Z</dcterms:modified>
  <cp:revision>9</cp:revision>
  <dc:subject/>
  <dc:title>PowerPoint 演示文稿</dc:title>
</cp:coreProperties>
</file>