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149-4B4A-40B4-A70D-9A6B7AED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CAD-346F-4BFE-A980-D3C4D9C9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825-7E10-4676-9F6A-E8B997DB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A8D6-AF62-4FB0-BDBF-7A5752AF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033E-3BD3-4295-AC8F-5B810DC8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9A2D-1314-491F-80D2-C1E3A0B1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F27A-1137-4F0C-8E5D-9B3E7619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4A2C-6DDD-4FA0-8501-C3C0FE37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A6FE-2B75-44E0-BE92-BC5B06C8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1EE2-6ED8-456A-98F5-D9B0C096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8AFD-AEFD-4D7B-A2A7-4B97C78D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1FF-80B3-46F3-81DC-5E79A6CD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9078-C224-4546-84E4-F7C700DC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5538-FC9E-4249-B165-5F930958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975A-5A4E-40C0-BA52-134F02E8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BF31-BA66-4851-BABC-2A9EE0AA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8CF6-1350-48E4-924D-A75B1CDF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E281-E22E-43E6-8157-E12B4539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3B2-DBD7-4306-8DD7-EA52DF9D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0DD-BFB8-4B7B-94F3-F9716EB8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886-D6F8-48EE-AC4C-56B73E8A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FF4-A5A3-4E6A-A007-3E6D2A1A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E9B-4E5E-4690-96A4-938A8B01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4B3-E200-4955-9EAE-F40B9CF0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4270-3D52-40BD-B248-CE30CB5A55E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E9AB-894A-43BD-A4A5-29DC141494A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8120" y="457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华文琥珀"/>
              </a:rPr>
              <a:t>单元小测验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WW_059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200240" cy="99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66680" y="20574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请指出解释错误的两项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819520"/>
            <a:ext cx="7239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A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匪我愆期，子无良媒。 （愆：拖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B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尔卜尔筮，体无疚言。 （筮：占卜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C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以尔车来，以我贿迁。 （贿：贿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D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自我徂尔，三岁食贫。 （徂：往  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E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淇水汤汤，渐车帷裳。 （渐：浸  打湿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F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信誓旦旦，不思其反。 （反：违反  违背诺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G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自牧归荑，洵美且异。 （洵：美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答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8120" y="457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a209"/>
                </a:solidFill>
                <a:latin typeface="Tahoma"/>
                <a:ea typeface="华文琥珀"/>
              </a:rPr>
              <a:t>单元小测验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WW_059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200240" cy="993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2286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a209"/>
                </a:solidFill>
                <a:latin typeface="Tahoma"/>
              </a:rPr>
              <a:t>指出每项词语中，加横线字意义不同的一项（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276720"/>
            <a:ext cx="815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A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匪我愆期   受益匪浅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B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女之不爽   毫厘不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C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士也罔极   置若罔闻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D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躬自悼矣   事必躬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E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载笑载言   载歌载舞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F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乘彼垝垣   乘胜追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E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体无疚言   既往不咎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H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美人之贻   贻笑大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73392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373392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373392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3800" y="373392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426708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426708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26708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426708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80060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480060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487692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487692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541008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541008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541008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6019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答案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8120" y="457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Tahoma"/>
                <a:ea typeface="华文琥珀"/>
              </a:rPr>
              <a:t>单元小测验</a:t>
            </a:r>
            <a:r>
              <a:rPr b="1" lang="zh-CN" sz="4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WW_059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200240" cy="993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80880" y="2286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指出没有通假字的一项（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42900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A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将子无怒，秋以为期。       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B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自牧归荑，洵美且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C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女之耽兮，不可说也！       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D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爱而不见，搔首踟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E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淇则有岸，隰则有畔。       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F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岂曰无衣？与子同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G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于嗟女兮，无于士耽。      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H  </a:t>
            </a:r>
            <a:r>
              <a:rPr b="1" lang="zh-CN" sz="2400" spc="-1" strike="noStrike">
                <a:solidFill>
                  <a:srgbClr val="ff5050"/>
                </a:solidFill>
                <a:latin typeface="Tahoma"/>
                <a:ea typeface="幼圆"/>
              </a:rPr>
              <a:t>夙兴夜寐，靡有朝矣。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答案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8120" y="457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华文琥珀"/>
              </a:rPr>
              <a:t>单元小测验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WW_059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200240" cy="993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38080" y="20574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请指出“言”字解释相同的两项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81952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A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言既遂矣，至于暴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B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尔卜尔筮，体无疚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C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总角之宴，言笑晏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D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既见复关，载笑载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E 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静言思之，躬自悼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6019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答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8120" y="457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a209"/>
                </a:solidFill>
                <a:latin typeface="Tahoma"/>
                <a:ea typeface="华文琥珀"/>
              </a:rPr>
              <a:t>单元小测验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WW_059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200240" cy="993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9480" y="2286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a209"/>
                </a:solidFill>
                <a:latin typeface="Tahoma"/>
              </a:rPr>
              <a:t>指出成语使用恰当的一项（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971800"/>
            <a:ext cx="83818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A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敬老院里的老人们说，有这样好的地方安度晚年，我们一</a:t>
            </a:r>
            <a:br>
              <a:rPr sz="2400"/>
            </a:b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  定要白头偕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B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这场球赛，我们班就要获胜了，同学们在旁边呐喊助威，</a:t>
            </a:r>
            <a:br>
              <a:rPr sz="2400"/>
            </a:b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  信誓旦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C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三年来，他夙兴夜寐，笔耕不辍，终于完成了这部长篇小</a:t>
            </a:r>
            <a:br>
              <a:rPr sz="2400"/>
            </a:b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  说的初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D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我收到了一封国外来信，上面的邮票不胫而走，不知被哪</a:t>
            </a:r>
            <a:br>
              <a:rPr sz="2400"/>
            </a:b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  个集邮迷撕去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373392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6172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答案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3809880"/>
            <a:ext cx="1371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4724280"/>
            <a:ext cx="1371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5257800"/>
            <a:ext cx="1371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6172200"/>
            <a:ext cx="1371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8120" y="457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  <a:ea typeface="华文琥珀"/>
              </a:rPr>
              <a:t>课后小检测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WW_059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200240" cy="993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66680" y="2286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对通假字的解释不正确的一项是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200400"/>
            <a:ext cx="7543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A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幼圆"/>
              </a:rPr>
              <a:t>爱而不见，搔首踟蹰。（爱，通“薆”，隐藏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B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兄弟不知，西其笑矣。（知，通“智”，聪明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C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幼圆"/>
              </a:rPr>
              <a:t>岂曰无衣？与子同泽。（泽，通“襗”，内衣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D </a:t>
            </a:r>
            <a:r>
              <a:rPr b="1" lang="zh-CN" sz="2400" spc="-1" strike="noStrike">
                <a:solidFill>
                  <a:srgbClr val="333399"/>
                </a:solidFill>
                <a:latin typeface="幼圆"/>
                <a:ea typeface="幼圆"/>
              </a:rPr>
              <a:t>于嗟鸠兮，无食桑葚！（于，通“吁”，吁嗟，感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5791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答案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8120" y="457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a209"/>
                </a:solidFill>
                <a:latin typeface="Tahoma"/>
                <a:ea typeface="华文琥珀"/>
              </a:rPr>
              <a:t>单元小测验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WW_059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200240" cy="993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86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a209"/>
                </a:solidFill>
                <a:latin typeface="Tahoma"/>
              </a:rPr>
              <a:t>指出每项词语中，加横线字意义不同的一项（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3276720"/>
            <a:ext cx="8153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A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匪我愆期   受益匪浅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B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女之不爽   毫厘不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C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士也罔极   置若罔闻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D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躬自悼矣   事必躬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E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载笑载言   载歌载舞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F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乘彼垝垣   乘胜追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E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体无疚言   既往不咎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</a:rPr>
              <a:t>H </a:t>
            </a:r>
            <a:r>
              <a:rPr b="1" lang="zh-CN" sz="2400" spc="-1" strike="noStrike">
                <a:solidFill>
                  <a:srgbClr val="f7a209"/>
                </a:solidFill>
                <a:latin typeface="幼圆"/>
                <a:ea typeface="幼圆"/>
              </a:rPr>
              <a:t>美人之贻   贻笑大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373392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373392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373392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373392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426708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4267080"/>
            <a:ext cx="22860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426708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26708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480060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480060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487692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9400" y="487692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541008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541008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5410080"/>
            <a:ext cx="304920" cy="0"/>
          </a:xfrm>
          <a:prstGeom prst="line">
            <a:avLst/>
          </a:prstGeom>
          <a:ln w="28440">
            <a:solidFill>
              <a:srgbClr val="f7a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6019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答案：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9:21:08Z</dcterms:created>
  <dc:creator>founder</dc:creator>
  <dc:description/>
  <dc:language>en-US</dc:language>
  <cp:lastModifiedBy>founder</cp:lastModifiedBy>
  <dcterms:modified xsi:type="dcterms:W3CDTF">2002-08-18T07:34:57Z</dcterms:modified>
  <cp:revision>6</cp:revision>
  <dc:subject/>
  <dc:title>PowerPoint 演示文稿</dc:title>
</cp:coreProperties>
</file>