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B3BDA-49E3-4F3E-B2B3-EBBA8CA1A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9F798-81FC-434E-94D5-6E28E89BD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16D36-E1CB-4DB1-82A3-F07D44A9B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B2D31-17E7-4B07-8033-E41E2AF0D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C5955-89DB-4668-8A74-A090F0B63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C2741-4564-4CA6-989A-C9D39823A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86FD5-4AC1-44D7-B362-90E1A4C46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9D8DB-1416-4969-AE1B-BFDA982EA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DC3BB-FE19-451C-B433-E185DCCDD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09020-F81F-4AD2-9C30-A45224DD8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6BC83-EC01-462F-A906-5ED7645FA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BA215-287D-45D4-861C-7F57735DA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2088B-3DC5-4D8C-9580-BD57D667A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647EA-CF86-40B0-94C1-8083AA3FD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8605D-8852-4F7B-8360-E37C4F17A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1CA6D-3521-453A-9537-41F13CFED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B5CD1-531A-4C19-8D99-89D76D4F0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1C715-0F68-48D7-B609-E3AD8B21D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070D1-956F-46B4-A5D8-4303AFAC9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E3734-A92F-4528-B46C-3FC9F6818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4F0F0-D796-4764-BD1A-8DA2D986A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B7532-C5CD-42FA-8DE0-7A4E01C2A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405A4-6019-4453-964F-1099EE47F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5F4E0-66F0-4156-8114-A4C33DEB7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minispir" descr="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minispir" descr="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7C37A-E42B-424E-8BCE-6407E7447AD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minispir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minispir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BF878-318D-449B-8378-20225AB0966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&#12298;&#35799;&#32463;&#12299;&#31616;&#20171;.ppt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066680" y="1752480"/>
            <a:ext cx="7543800" cy="30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zh-CN" sz="2800" spc="-1" strike="noStrike">
                <a:solidFill>
                  <a:srgbClr val="996633"/>
                </a:solidFill>
                <a:latin typeface="Times New Roman"/>
                <a:ea typeface="幼圆"/>
              </a:rPr>
              <a:t>岂曰无衣？与子同袍。王于兴师，修我戈矛，与子同仇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zh-CN" sz="2800" spc="-1" strike="noStrike">
                <a:solidFill>
                  <a:srgbClr val="996633"/>
                </a:solidFill>
                <a:latin typeface="Times New Roman"/>
                <a:ea typeface="幼圆"/>
              </a:rPr>
              <a:t>岂曰无衣？与子同泽。王于兴师，修我矛戟，与子偕作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zh-CN" sz="2800" spc="-1" strike="noStrike">
                <a:solidFill>
                  <a:srgbClr val="996633"/>
                </a:solidFill>
                <a:latin typeface="Times New Roman"/>
                <a:ea typeface="幼圆"/>
              </a:rPr>
              <a:t>岂曰无衣？与子同裳。王于兴师，修我甲兵，与子偕行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200400" y="609480"/>
            <a:ext cx="4419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6633"/>
                </a:solidFill>
                <a:latin typeface="Times New Roman"/>
                <a:ea typeface="幼圆"/>
              </a:rPr>
              <a:t>秦风</a:t>
            </a:r>
            <a:r>
              <a:rPr b="1" lang="zh-CN" sz="4000" spc="-1" strike="noStrike">
                <a:solidFill>
                  <a:srgbClr val="996633"/>
                </a:solidFill>
                <a:latin typeface="Times New Roman"/>
                <a:ea typeface="幼圆"/>
              </a:rPr>
              <a:t>·</a:t>
            </a:r>
            <a:r>
              <a:rPr b="1" lang="zh-CN" sz="4000" spc="-1" strike="noStrike">
                <a:solidFill>
                  <a:srgbClr val="996633"/>
                </a:solidFill>
                <a:latin typeface="Times New Roman"/>
                <a:ea typeface="幼圆"/>
              </a:rPr>
              <a:t>无衣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2895480" y="762120"/>
            <a:ext cx="3886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996633"/>
                </a:solidFill>
                <a:latin typeface="Times New Roman"/>
                <a:ea typeface="幼圆"/>
              </a:rPr>
              <a:t>小雅</a:t>
            </a:r>
            <a:r>
              <a:rPr b="0" lang="zh-CN" sz="4000" spc="-1" strike="noStrike">
                <a:solidFill>
                  <a:srgbClr val="996633"/>
                </a:solidFill>
                <a:latin typeface="Times New Roman"/>
                <a:ea typeface="幼圆"/>
              </a:rPr>
              <a:t>·</a:t>
            </a:r>
            <a:r>
              <a:rPr b="0" lang="zh-CN" sz="4000" spc="-1" strike="noStrike">
                <a:solidFill>
                  <a:srgbClr val="996633"/>
                </a:solidFill>
                <a:latin typeface="Times New Roman"/>
                <a:ea typeface="幼圆"/>
              </a:rPr>
              <a:t>采薇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219320" y="2362320"/>
            <a:ext cx="73152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33"/>
                </a:solidFill>
                <a:latin typeface="Times New Roman"/>
                <a:ea typeface="幼圆"/>
              </a:rPr>
              <a:t>昔我往矣，杨柳依依，今我来思，雨雪霏霏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zh-CN" sz="2400" spc="-1" strike="noStrike">
                <a:solidFill>
                  <a:srgbClr val="996633"/>
                </a:solidFill>
                <a:latin typeface="Times New Roman"/>
                <a:ea typeface="幼圆"/>
              </a:rPr>
              <a:t>行道迟迟，载渴载饥。我心伤悲，莫知我哀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>
            <a:hlinkClick r:id="rId1"/>
          </p:cNvPr>
          <p:cNvSpPr/>
          <p:nvPr/>
        </p:nvSpPr>
        <p:spPr>
          <a:xfrm>
            <a:off x="8458200" y="617220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5T03:10:32Z</dcterms:created>
  <dc:creator>founder</dc:creator>
  <dc:description/>
  <dc:language>en-US</dc:language>
  <cp:lastModifiedBy>founder</cp:lastModifiedBy>
  <dcterms:modified xsi:type="dcterms:W3CDTF">2002-08-26T04:45:31Z</dcterms:modified>
  <cp:revision>6</cp:revision>
  <dc:subject/>
  <dc:title>PowerPoint 演示文稿</dc:title>
</cp:coreProperties>
</file>