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213-8AFE-4961-9D29-8C3EBA72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B91-35D0-407E-AA4F-574DBA3E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8E7-F4FE-425E-9FDF-B5707661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8D2-524F-49D0-80D7-7D926C11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A1A3-6CB6-481B-8DE4-7E684C96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2B5E-E7CE-4AEB-B329-579F2EBA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7A4E-A4F6-468A-8BC4-595BC936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C67F-0CFF-4ED3-A19F-C360C16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AF7A-DF9D-475B-A77C-6854EF9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C802-0E2D-4FD5-825C-313E48C8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C258-3FC7-4C51-B365-42D860A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9970-9625-4539-B8AB-C7D1F7EA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1AE-F7D9-4426-8AC9-173E2AB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C275-38C2-4A8D-851F-AB639900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B91D-9111-4481-BC24-E7B6CC7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DD2A-F593-4B4B-95E2-078416D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ED6F-2A60-46B1-BD3B-42A5A26D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949-0835-4859-B7EB-44AD72A8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AE0-BFF0-4732-9D71-822C3B1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D2A-0268-4955-8AFA-E350BE48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11DA-CF4F-46CC-A9DC-D1123157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273-32C4-48E2-98E1-CD5C43A6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C3B-20FB-469A-9FFA-52B4B55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CBE-CDE8-42E4-943F-5F6A554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FB3A-8B6B-4C7E-818E-2559D2430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5C0-98E7-4BF0-909F-DB45E69DEF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4605;&#24819;&#20869;&#2348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1828800"/>
            <a:ext cx="7391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黍！三岁贯女，莫我肯顾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土。乐土乐土，爰得我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麦！三岁贯女，莫我肯德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国。乐国乐国，爰得我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硕鼠硕鼠，无食我苗！三岁贯女，莫我肯劳，</a:t>
            </a: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</a:rPr>
              <a:t>誓将去女，适彼乐郊。乐郊乐郊，谁之永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6858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魏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硕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/>
          </p:cNvPr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20:28Z</dcterms:created>
  <dc:creator>founder</dc:creator>
  <dc:description/>
  <dc:language>en-US</dc:language>
  <cp:lastModifiedBy>founder</cp:lastModifiedBy>
  <dcterms:modified xsi:type="dcterms:W3CDTF">2002-07-15T08:11:53Z</dcterms:modified>
  <cp:revision>4</cp:revision>
  <dc:subject/>
  <dc:title>PowerPoint 演示文稿</dc:title>
</cp:coreProperties>
</file>