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7E3-F7F3-4A96-A54F-BA077F40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446-2926-4D6C-A523-9E769062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6ED0-339B-4E2E-B058-C6C92102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475-5DC1-4BD9-865E-8582C11D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9E8A-4788-4727-AF47-088C9D20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06E-38A2-46CD-BAC2-3AD2C4BC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10E0-0020-47D5-A330-89E6C079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52DA-D012-42EF-B85C-1C58C119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5DCC-CE34-4BC9-97DE-DB1DE16E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7B65-50F2-4F7C-BCA6-70AA32D7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1212-CD00-4CB6-8F7B-838C9B48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26A-D4E0-403E-A503-83BC792B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CDD1-6210-4C1F-9F83-75D174F2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81AD-48D3-4EC8-801A-A017A6C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C70E-AA03-46CA-8A32-2EB03904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757F-8193-45F1-9F5A-0EA5AF64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A5DF-F664-492C-976B-9A295A94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BAB-C4DF-440F-8A1E-02E7A9A1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CC6-F3F4-4E42-9FF7-12095729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640-5D40-407C-8EA6-D0157E7F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08A-47F3-4271-BDE7-5625299A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03B-C6F9-48F9-AD88-97BCC50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2FE-523A-45CA-A342-7353FC0E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C63-A59A-4620-B5D1-13C01265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0EB5-F238-424D-B2C9-EC160AAB2B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11D5-2F36-42F0-AE7A-6D28B92F0A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2298;&#35799;&#32463;&#12299;&#31616;&#2017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143000" y="4191120"/>
            <a:ext cx="7467480" cy="1143000"/>
            <a:chOff x="1143000" y="4191120"/>
            <a:chExt cx="7467480" cy="1143000"/>
          </a:xfrm>
        </p:grpSpPr>
        <p:sp>
          <p:nvSpPr>
            <p:cNvPr id="90" name=""/>
            <p:cNvSpPr/>
            <p:nvPr/>
          </p:nvSpPr>
          <p:spPr>
            <a:xfrm>
              <a:off x="1143000" y="4191120"/>
              <a:ext cx="7467480" cy="1143000"/>
            </a:xfrm>
            <a:prstGeom prst="rect">
              <a:avLst/>
            </a:prstGeom>
            <a:solidFill>
              <a:srgbClr val="cbb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4267080"/>
              <a:ext cx="723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描写奴隶们的伐木生活，表达他们对不劳而获的奴隶主的不满与揭露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733920" y="6858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魏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伐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0574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坎坎伐檀兮，置之河之干兮，河水清且涟猗。不稼不穑，胡取禾三百廛兮？不狩不猎，胡瞻尔庭有悬貆兮？彼君子兮，不素餐兮  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2480" y="1828800"/>
            <a:ext cx="7391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黍！三岁贯女，莫我肯顾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土。乐土乐土，爰得我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麦！三岁贯女，莫我肯德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国。乐国乐国，爰得我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苗！三岁贯女，莫我肯劳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郊。乐郊乐郊，谁之永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6858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魏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硕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/>
          </p:cNvPr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3:44:50Z</dcterms:created>
  <dc:creator>founder</dc:creator>
  <dc:description/>
  <dc:language>en-US</dc:language>
  <cp:lastModifiedBy>founder</cp:lastModifiedBy>
  <dcterms:modified xsi:type="dcterms:W3CDTF">2002-08-28T05:14:27Z</dcterms:modified>
  <cp:revision>7</cp:revision>
  <dc:subject/>
  <dc:title>PowerPoint 演示文稿</dc:title>
</cp:coreProperties>
</file>