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5FB2-964B-473D-9286-78E55C46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141A-3351-4D46-A2D4-C10220AB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92EE-0D90-4FDD-A2CB-5C22F056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6DFF-D669-41DC-A004-6F2BAB21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5C26-8D24-4B34-A708-BB7C2146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1F43-9544-4A80-83E1-13E9F347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1525-93DA-42AA-A80D-FD343A95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DE7C-78E3-4115-AB6E-34021A60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4FD2-02C1-4349-A177-63687975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B201-B76F-4D3B-80B2-6C3A2DED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87B5-24A2-42D9-A6F2-D4FB3553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A6C-63CF-4095-B0CC-C7726595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234B-C047-438B-9F88-B8E30269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AB13-E39F-4281-8937-ED6A82DE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2BD0-DA7B-4273-81EF-2195C20E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CE24-FDAD-4B23-8AE5-FA5EB70D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4D1E-B3EB-4F6C-B486-06763414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E02F-E57B-4FFE-9398-25F78765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2FA-B35E-4622-BDF9-8F33AC18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35D-BD43-41F7-B771-F91377BE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F741-FDAE-434B-A0FE-C1EBD30D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2110-E542-4C54-913A-D2CFA02B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927E-0F9F-495B-8932-26349522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6B4-E190-48D0-B2DE-9E3BE525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98BD-3A69-4305-AAF5-59E6C29BD8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5CBA-915A-4E22-A790-7D432125E8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38745;&#22899;&#19968;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76520" y="2514600"/>
            <a:ext cx="685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关关雎鸠，在河之洲，窈窕淑女，君子好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参差荇菜，左右流之。窈窕淑女，寤寐求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求之不得，寤寐思服。悠哉悠哉，辗转反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68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幼圆"/>
                <a:ea typeface="幼圆"/>
              </a:rPr>
              <a:t>小 雅</a:t>
            </a:r>
            <a:r>
              <a:rPr b="1" lang="zh-CN" sz="4000" spc="-1" strike="noStrike">
                <a:solidFill>
                  <a:srgbClr val="996633"/>
                </a:solidFill>
                <a:latin typeface="幼圆"/>
                <a:ea typeface="幼圆"/>
              </a:rPr>
              <a:t>·</a:t>
            </a:r>
            <a:r>
              <a:rPr b="1" lang="zh-CN" sz="4000" spc="-1" strike="noStrike">
                <a:solidFill>
                  <a:srgbClr val="996633"/>
                </a:solidFill>
                <a:latin typeface="幼圆"/>
                <a:ea typeface="幼圆"/>
              </a:rPr>
              <a:t>关  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"/>
          </p:cNvPr>
          <p:cNvSpPr/>
          <p:nvPr/>
        </p:nvSpPr>
        <p:spPr>
          <a:xfrm>
            <a:off x="8381880" y="6324480"/>
            <a:ext cx="152640" cy="152640"/>
          </a:xfrm>
          <a:prstGeom prst="diamond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03:57:48Z</dcterms:created>
  <dc:creator>founder</dc:creator>
  <dc:description/>
  <dc:language>en-US</dc:language>
  <cp:lastModifiedBy>founder</cp:lastModifiedBy>
  <dcterms:modified xsi:type="dcterms:W3CDTF">2002-08-25T07:09:25Z</dcterms:modified>
  <cp:revision>3</cp:revision>
  <dc:subject/>
  <dc:title>PowerPoint 演示文稿</dc:title>
</cp:coreProperties>
</file>