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F68-85FA-4CA8-B5D2-4935D3B0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811-D341-4505-993D-B45919A0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F51-8C89-4802-B64E-E412ED1E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7E6-063F-4F76-8D82-1F256BE5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6403-5CA5-4694-91FD-33720781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1ED1-67B3-46C6-9895-AFCC36FA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AD35-016E-414D-BACB-659F3DA6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BC2-777F-4C2F-8982-BD5AB9ED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DC88-E2C4-4CBB-ACF6-1FC4EA54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DF5E-AFCB-4747-944D-C247BD23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02D2-F52F-4A72-92F9-EE6B9C6F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E3A-10B3-4A75-9B44-C2BB8E3E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2278-87C0-4E1D-BA3E-36E3BC7E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1E92-D4D6-4C0D-B237-2DD2243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7D7A-083F-4DB9-84D5-AF5F4C3B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6ACE-B8CE-4167-8EBD-3283AA19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DBA3-80E7-4633-8650-836AC4E6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A13-BF72-4222-B56C-CFA1CC37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363-C0F1-4BF6-8B93-F24E6BC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CBB-4A9C-40B4-BFBE-0C21AAE2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1E0-F500-4ECA-8DCC-1C74DD52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ACB-F069-4FFD-BF57-2153F5D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9A6-971D-4769-8AD8-36CD3F4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6B5-FC33-4B01-9CC5-E6C0814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72A4-3ED1-4E94-86FE-B9FD3E8CD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1DCB-F204-4656-949D-7CA4AEC4B7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0666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氓之蚩蚩，抱布贸丝。匪来贸丝，来即我谋。送子涉淇，至于顿丘。匪我愆期，子无良媒。将子无怒，秋以为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乘彼</a:t>
            </a: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Times New Roman"/>
              </a:rPr>
              <a:t>垝</a:t>
            </a: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垣 ，以望复关。不见复关，涕泣涟涟。既见复关，载笑载言。尔卜尔筮，体无疚言。以尔车来，以我贿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未落，其叶沃若。于嗟鸠兮，无食桑葚！于嗟女兮，无于士耽。士之耽兮，犹可说也。女之耽兮，不可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落矣，其黄而陨。自我徂尔，三岁食贫。淇水汤汤，渐车帷裳。女之不爽，士贰其行。士也罔极，三二其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三岁为妇，靡室劳矣。夙兴夜寐，靡有朝矣。言既遂矣，至于暴矣。兄弟不知，唏其笑矣。静言思之，躬自悼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及尔偕老，老使我怨。淇则有岸，隰则有畔。总角之宴，言笑晏晏。信誓旦旦，不思其反。反是不思，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卫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4:38:39Z</dcterms:created>
  <dc:creator>founder</dc:creator>
  <dc:description/>
  <dc:language>en-US</dc:language>
  <cp:lastModifiedBy>founder</cp:lastModifiedBy>
  <dcterms:modified xsi:type="dcterms:W3CDTF">2002-07-19T03:58:59Z</dcterms:modified>
  <cp:revision>5</cp:revision>
  <dc:subject/>
  <dc:title>PowerPoint 演示文稿</dc:title>
</cp:coreProperties>
</file>