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79C-7C1B-4EA5-95B9-34E085DC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19D-DD8F-4CC4-8203-0064521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070-F55E-4FAF-B9AD-E2CF2D68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3E5-8AC6-4DAF-9A3E-8AE32587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2F3B-48F2-4CB1-B275-35C3C2E2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CA9B-1F60-460D-A200-718C867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C7A8-2D33-4EBC-ABB7-616CCC3B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14FE-4DF7-40CC-A305-808184A2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DAF-98F6-429E-A722-BC5DE2FF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FC19-8F77-4D16-9ABA-CE915812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208D-1EB9-414D-B407-E7954E1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4A2-E87E-4312-BFA5-E85327D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6B06-4B67-4707-BFB9-8BA6330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9024-FCB8-40EC-9827-EC1FDF66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3AEE-960B-4FAF-841F-D20540A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3829-7666-4FD3-957D-81C1E7B0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B520-7BDA-435D-95AD-1C57D2C5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B2E-BDEF-4573-8D2C-0A56AB8A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D74-7CF8-47DF-A221-281C14A6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168-612C-43F7-9E26-22429F1A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665-3051-4CC3-8739-AE75A2E7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7EA-D30A-428D-BDA8-2F778D64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8D3-2702-41BF-9718-C2585EE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0EF0-E69F-4084-B174-44B2B25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B235-0AF7-4B78-8C6C-878570C4FD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30E-88A1-4E47-BF7E-1284CA7EC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2298;&#35799;&#32463;&#12299;&#31616;&#20171;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514600"/>
            <a:ext cx="685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关关雎鸠，在河之洲，窈窕淑女，君子好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参差荇菜，左右流之。窈窕淑女，寤寐求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996633"/>
                </a:solidFill>
                <a:latin typeface="Times New Roman"/>
                <a:ea typeface="幼圆"/>
              </a:rPr>
              <a:t>求之不得，寤寐思服。悠哉悠哉，辗转反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68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小 雅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幼圆"/>
                <a:ea typeface="幼圆"/>
              </a:rPr>
              <a:t>关  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2590920"/>
            <a:ext cx="7391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姝，俟我于城隅。爱而不见，搔首踟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其娈，贻我彤管。彤管有炜，说怿女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  <a:ea typeface="幼圆"/>
              </a:rPr>
              <a:t>自牧归荑，洵美且异。匪女之为美，美人之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838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邶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静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6668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抱布贸丝。匪来贸丝，来即我谋。送子涉淇，至于顿丘。匪我前期，子无良媒。将子无怒，秋以为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乘彼跪垣，以望复关。不见复关，涕泣涟涟。既见复关，载笑载言。尔卜尔筮，体无疚言。以尔车来，以我贿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未落，其叶沃若。于嗟鸠兮，无食桑葚！于嗟女兮，无于士耽。士之耽兮，犹可说也。女之耽兮，不可脱也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桑之落矣，其黄而陨。自我徂尔，三岁食贫。淇水汤汤，渐车帷裳。女之不爽，士贰其行。士也罔极，三二其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三岁为妇，靡室劳矣。夙兴夜寐，靡有朝矣。言既遂矣，至于暴矣。兄弟不知，西其笑矣。静言思之，躬自悼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33"/>
                </a:solidFill>
                <a:latin typeface="幼圆"/>
                <a:ea typeface="幼圆"/>
              </a:rPr>
              <a:t>及尔偕老，老使我怨。淇则有岸，隰则有畔。总角之宴，言笑晏晏。信誓旦旦，不思其反。反是不思，亦已焉哉 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304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卫风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·</a:t>
            </a:r>
            <a:r>
              <a:rPr b="1" lang="zh-CN" sz="4000" spc="-1" strike="noStrike">
                <a:solidFill>
                  <a:srgbClr val="996633"/>
                </a:solidFill>
                <a:latin typeface="Times New Roman"/>
                <a:ea typeface="幼圆"/>
              </a:rPr>
              <a:t>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07:35:57Z</dcterms:created>
  <dc:creator>founder</dc:creator>
  <dc:description/>
  <dc:language>en-US</dc:language>
  <cp:lastModifiedBy>founder</cp:lastModifiedBy>
  <dcterms:modified xsi:type="dcterms:W3CDTF">2002-08-25T10:02:16Z</dcterms:modified>
  <cp:revision>7</cp:revision>
  <dc:subject/>
  <dc:title>PowerPoint 演示文稿</dc:title>
</cp:coreProperties>
</file>