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03C-5A8F-415B-8D61-D736DF71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72C-2E36-4779-BA4C-5B280A1D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52E-D1E7-4971-B51A-56E3D80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73E-9201-4E89-9CC8-9986C92C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2E4E-9209-4C6D-B426-CBE6BC09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1944-02B6-4FE5-8925-3CA20AD0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AB63-CE54-4451-967F-D7B11BCA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B9E-D8B2-4676-BC3D-871984F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FD2-BEDD-4A2B-9A93-3D3830D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813-A01A-44FE-8EFC-D7652762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F54-EA68-4572-B17B-B23F3DA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C1F-4D2F-4480-8213-5691D988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90A7-92AD-44C1-9D8D-2EE3A1E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B8E6-646E-495E-9D18-8776AC5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09F8-F0B8-4581-A3B6-09DB194B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F731-B076-435E-B9B1-12ED7C6E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F8A5-A439-45F9-99A8-46697CD8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F18-3BB5-4328-A7C5-2C738D1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89C-12D4-4B86-908F-AAC0ED6C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551-B41F-4034-8697-A4BC741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6AB-0030-4802-8A40-5E8FB3F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C28-3D4A-4EA1-AD9D-EAA47BA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54F-AABE-4B5C-B1A7-C28D1BC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F03-7605-478B-B682-8417F22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78C-17E0-4C95-8466-7739D1666C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73C-8FEB-4026-99D7-A2DDDBB7FC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2298;&#27667;&#12299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259092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姝，俟我于城隅。爱而不见，搔首踟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娈，贻我彤管。彤管有炜，说怿女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自牧归荑，洵美且异。匪女之为美，美人之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838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邶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458200" y="6324480"/>
            <a:ext cx="228600" cy="228600"/>
          </a:xfrm>
          <a:prstGeom prst="diamond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氓之蚩蚩，抱布贸丝。匪来贸丝，来即我谋。送子涉淇，至于顿丘。匪我前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跪垣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西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7:50:32Z</dcterms:created>
  <dc:creator>founder</dc:creator>
  <dc:description/>
  <dc:language>en-US</dc:language>
  <cp:lastModifiedBy>founder</cp:lastModifiedBy>
  <dcterms:modified xsi:type="dcterms:W3CDTF">2002-08-26T04:45:49Z</dcterms:modified>
  <cp:revision>3</cp:revision>
  <dc:subject/>
  <dc:title>PowerPoint 演示文稿</dc:title>
</cp:coreProperties>
</file>