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6DC-4AA9-4FE6-9FB5-29A0E62C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FA1-F026-437E-997B-4FF57F04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7FB-27C4-41B8-8710-BC43443F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F49-B008-4557-B952-35E7EABE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DF52-AE8B-4FF2-8C91-96CC4862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6236-1F9D-4067-B67D-BF7C1E3E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0E59-5628-4460-BBA5-82B433D2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34E8-A221-43E4-B045-04094009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DECC-A6EC-47AE-9154-AA16D64C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2C69-FAC2-4DEA-803A-8DECD12B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F76B-179A-4521-B1EF-9DEBF1FC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F897-C19F-46BD-8645-27538736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B154-E5A0-4DD8-8002-E5F4A05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5064-6347-4B48-B04A-458C8415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D3D5-AF62-4BA9-8E24-96C3E3FC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35E8-C2B7-45B6-8CE6-CE5E3272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BAE4-B6C0-45AF-9179-3E6E3243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DD3-8CD9-4AC3-BB05-CAB753D6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00B-D725-446A-B5AE-5B53AA5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300-F2B7-437C-9103-87CAE5EC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2E3E-0D16-4DFE-B0FC-4D2EA7AB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6A7-7D55-4D27-B2BD-9E21C422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CD2-ECAC-4951-AC5D-7C105BF3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9BA-86F3-49C6-A352-A0A4944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27E8-8234-4D58-8FD5-B709388AAB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37D4-4D98-4E2F-93A9-C42D3713049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4605;&#24819;&#20869;&#23481;&#19968;&#8212;&#8212;&#20240;&#27264;.ppt" TargetMode="External"/><Relationship Id="rId2" Type="http://schemas.openxmlformats.org/officeDocument/2006/relationships/hyperlink" Target="file:///&#24605;&#24819;&#20869;&#23481;&#20108;&#8212;&#8212;&#38745;&#22899;.ppt" TargetMode="External"/><Relationship Id="rId3" Type="http://schemas.openxmlformats.org/officeDocument/2006/relationships/hyperlink" Target="file:///&#24605;&#24819;&#20869;&#23481;&#19977;&#8212;&#8212;&#26080;&#34915;.ppt" TargetMode="External"/><Relationship Id="rId4" Type="http://schemas.openxmlformats.org/officeDocument/2006/relationships/hyperlink" Target="file:///&#12298;&#35799;&#32463;&#12299;&#19977;&#39318;&#20998;&#26512;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幼圆"/>
              </a:rPr>
              <a:t>           </a:t>
            </a: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幼圆"/>
              </a:rPr>
              <a:t>《诗经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447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《诗经》是我国第一部诗歌总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内容：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风    雅    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4343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形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四言为主，重章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5181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手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赋   比    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981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收入从西周到春秋时期的诗歌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305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90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汉以前被称为《诗》或《诗三百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7339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6172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《诗经》是我国古典诗歌现实主义的源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905120"/>
            <a:ext cx="8380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3048120"/>
            <a:ext cx="30456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3048120"/>
            <a:ext cx="68580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048120"/>
            <a:ext cx="114300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962520"/>
            <a:ext cx="22096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629400"/>
            <a:ext cx="121932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800600"/>
            <a:ext cx="266724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638680"/>
            <a:ext cx="19810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2438280"/>
            <a:ext cx="15238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60020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74320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64832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632448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7400" y="4572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华文隶书"/>
              </a:rPr>
              <a:t>《诗经》的思想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1523880" y="1828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一、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反映奴隶们对剥削压迫的不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1523880" y="2895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二、反映当时的婚姻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3"/>
          </p:cNvPr>
          <p:cNvSpPr/>
          <p:nvPr/>
        </p:nvSpPr>
        <p:spPr>
          <a:xfrm>
            <a:off x="1523880" y="3962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三、反映当时的战争徭役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029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663300"/>
                </a:solidFill>
                <a:latin typeface="Verdana"/>
              </a:rPr>
              <a:t>现实主义诗篇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5638680"/>
            <a:ext cx="259056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Verdana"/>
                <a:ea typeface="方正舒体"/>
              </a:rPr>
              <a:t>（饥者歌其食，劳者歌其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4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9e2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0:39:50Z</dcterms:created>
  <dc:creator>founder</dc:creator>
  <dc:description/>
  <dc:language>en-US</dc:language>
  <cp:lastModifiedBy>founder</cp:lastModifiedBy>
  <dcterms:modified xsi:type="dcterms:W3CDTF">2002-08-28T04:57:04Z</dcterms:modified>
  <cp:revision>9</cp:revision>
  <dc:subject/>
  <dc:title>PowerPoint 演示文稿</dc:title>
</cp:coreProperties>
</file>