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237-1D17-4213-A511-57B6C0FF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849-8199-47A7-AE2E-CF62C7D3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B9A-4FF2-4807-80F5-72EA43D9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7A8-5F57-48CE-8810-571FD9A7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8E2E-550D-4B66-B644-A5F81D20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06EE-06E6-4A76-8712-395C486F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D5C7-B909-42A5-9A6B-A8CC732F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79B-1D06-49B2-B1E6-7911852F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3309-A54F-4D62-BC30-5768737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D368-D329-4ADE-8669-D724817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36E5-D854-4774-ADAC-3C9E996D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D59-9103-4D76-B83D-1E0BCB8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0EB2-438D-4252-BC25-17D133EB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3E66-1FD3-4CDC-819C-317B27B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6304-2C3A-4663-8664-A0CF24C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8C7C-A1BF-44FE-BC3F-89CFA713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F38-948D-4AC0-985F-62E8BA9E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16F-15E1-4B17-9D42-99449473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1FF-5531-458E-A19A-0E224CF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509-2E55-46A0-B5C9-6B666048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8EE-A023-4B9F-A42C-1C2FE79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226-E2EB-4460-BE8E-620AF612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DE5-A571-4FC9-B377-8DA6DA1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0357-E29A-4A05-BC6E-3020EE69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7BFC-B97C-462C-987D-68A401CADD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71CE-36CD-4F90-B9B1-155ED6B0F89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2057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请指出解释错误的两项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819520"/>
            <a:ext cx="7239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A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匪我愆期，子无良媒。 （愆：拖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B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尔卜尔筮，体无疚言。 （筮：占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C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以尔车来，以我贿迁。 （贿：贿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D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自我徂尔，三岁食贫。 （徂：往  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E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淇水汤汤，渐车帷裳。 （渐：浸  打湿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F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信誓旦旦，不思其反。 （反：违反  违背诺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G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自牧归荑，洵美且异。 （洵：美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a20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a209"/>
                </a:solidFill>
                <a:latin typeface="Tahoma"/>
              </a:rPr>
              <a:t>指出每项词语中，加横线字意义不同的一项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7672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匪我愆期   受益匪浅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B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女之不爽   毫厘不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士也罔极   置若罔闻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D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躬自悼矣   事必躬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载笑载言   载歌载舞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F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乘彼垝垣   乘胜追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体无疚言   既往不咎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H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美人之贻   贻笑大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733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267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80060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80060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87692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876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指出没有通假字的一项（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4290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A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将子无怒，秋以为期。 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B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自牧归荑，洵美且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C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女之耽兮，不可说也！ 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D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爱而不见，搔首踟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E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淇则有岸，隰则有畔。 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F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岂曰无衣？与子同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G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于嗟女兮，无于士耽。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H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夙兴夜寐，靡有朝矣。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请指出“言”字解释相同的两项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81952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A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言既遂矣，至于暴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B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尔卜尔筮，体无疚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C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总角之宴，言笑晏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D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既见复关，载笑载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E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静言思之，躬自悼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a20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2286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a209"/>
                </a:solidFill>
                <a:latin typeface="Tahoma"/>
              </a:rPr>
              <a:t>指出成语使用恰当的一项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971800"/>
            <a:ext cx="8381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敬老院里的老人们说，有这样好的地方安度晚年，我们一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定要白头偕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B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这场球赛，我们班就要获胜了，同学们在旁边呐喊助威，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信誓旦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三年来，他夙兴夜寐，笔耕不辍，终于完成了这部长篇小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说的初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D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我收到了一封国外来信，上面的邮票不胫而走，不知被哪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个集邮迷撕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80988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72428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25780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7220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琥珀"/>
              </a:rPr>
              <a:t>课后小检测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6680" y="2286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对通假字的解释不正确的一项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200400"/>
            <a:ext cx="754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幼圆"/>
              </a:rPr>
              <a:t>爱而不见，搔首踟蹰。（爱，通“薆”，隐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B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兄弟不知，西其笑矣。（知，通“智”，聪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幼圆"/>
              </a:rPr>
              <a:t>岂曰无衣？与子同泽。（泽，通“襗”，内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D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于嗟鸠兮，无食桑葚！（于，通“吁”，吁嗟，感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79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a20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a209"/>
                </a:solidFill>
                <a:latin typeface="Tahoma"/>
              </a:rPr>
              <a:t>指出每项词语中，加横线字意义不同的一项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27672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匪我愆期   受益匪浅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B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女之不爽   毫厘不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士也罔极   置若罔闻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D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躬自悼矣   事必躬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载笑载言   载歌载舞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F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乘彼垝垣   乘胜追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体无疚言   既往不咎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H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美人之贻   贻笑大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733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267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80060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80060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87692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4876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9:21:08Z</dcterms:created>
  <dc:creator>founder</dc:creator>
  <dc:description/>
  <dc:language>en-US</dc:language>
  <cp:lastModifiedBy>founder</cp:lastModifiedBy>
  <dcterms:modified xsi:type="dcterms:W3CDTF">2002-08-18T07:34:57Z</dcterms:modified>
  <cp:revision>6</cp:revision>
  <dc:subject/>
  <dc:title>PowerPoint 演示文稿</dc:title>
</cp:coreProperties>
</file>