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762F-35F9-473C-BFBB-67FA6FBA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C7E6-EC1D-4F5A-A11A-74CE1790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5B1B-C4A3-48F7-AD0A-CBC01974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0E7-B891-4E07-8C23-0B79F0BD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02D-AD52-4EBD-890E-58493DF0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AB2-021B-4FD2-97B4-21E27580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23FC-0849-426B-A877-B9195012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2B0-D624-4210-A174-88344DD8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D85-B1DA-4536-9F77-B1C4A9B5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7C5-C10C-4201-B67F-95733849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BA48-D812-44F3-9757-2EE31255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96F8-933F-4683-BD7D-D5182826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E6FA-43D3-4C45-AF91-1DC9156497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file:///../&#39064;&#26377;&#30446;&#24405;.ppt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Q_013" descr=""/>
          <p:cNvPicPr/>
          <p:nvPr/>
        </p:nvPicPr>
        <p:blipFill>
          <a:blip r:embed="rId1"/>
          <a:stretch/>
        </p:blipFill>
        <p:spPr>
          <a:xfrm>
            <a:off x="4038480" y="380880"/>
            <a:ext cx="1219320" cy="717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380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请思考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752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氓》叙述了一个什么故事？请简单概括情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743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氓》采用了什么方法描写“氓”和女主人公的性格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886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女主人公从自己的遭遇中得到的最痛楚的认识是什么？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请用原诗句回答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Z_013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PZ_013" descr=""/>
          <p:cNvPicPr/>
          <p:nvPr/>
        </p:nvPicPr>
        <p:blipFill>
          <a:blip r:embed="rId3"/>
          <a:stretch/>
        </p:blipFill>
        <p:spPr>
          <a:xfrm>
            <a:off x="533520" y="2819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PZ_013" descr=""/>
          <p:cNvPicPr/>
          <p:nvPr/>
        </p:nvPicPr>
        <p:blipFill>
          <a:blip r:embed="rId4"/>
          <a:stretch/>
        </p:blipFill>
        <p:spPr>
          <a:xfrm>
            <a:off x="533520" y="4114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9880" y="2286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33"/>
                </a:solidFill>
                <a:latin typeface="Times New Roman"/>
              </a:rPr>
              <a:t>《氓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81080" y="914400"/>
            <a:ext cx="5029200" cy="560160"/>
            <a:chOff x="1981080" y="914400"/>
            <a:chExt cx="5029200" cy="560160"/>
          </a:xfrm>
        </p:grpSpPr>
        <p:grpSp>
          <p:nvGrpSpPr>
            <p:cNvPr id="51" name=""/>
            <p:cNvGrpSpPr/>
            <p:nvPr/>
          </p:nvGrpSpPr>
          <p:grpSpPr>
            <a:xfrm>
              <a:off x="1981080" y="914400"/>
              <a:ext cx="5029200" cy="560160"/>
              <a:chOff x="1981080" y="914400"/>
              <a:chExt cx="5029200" cy="560160"/>
            </a:xfrm>
          </p:grpSpPr>
          <p:sp>
            <p:nvSpPr>
              <p:cNvPr id="52" name=""/>
              <p:cNvSpPr/>
              <p:nvPr/>
            </p:nvSpPr>
            <p:spPr>
              <a:xfrm>
                <a:off x="4572000" y="990360"/>
                <a:ext cx="0" cy="48420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981080" y="914400"/>
                <a:ext cx="502920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981080" y="963360"/>
                <a:ext cx="0" cy="48420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7010280" y="914400"/>
              <a:ext cx="0" cy="45720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676520" y="16765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恋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1752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婚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1676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决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438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33"/>
                </a:solidFill>
                <a:latin typeface="Times New Roman"/>
              </a:rPr>
              <a:t>章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一  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243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三 四 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91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33"/>
                </a:solidFill>
                <a:latin typeface="Times New Roman"/>
              </a:rPr>
              <a:t>人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51055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33"/>
                </a:solidFill>
                <a:latin typeface="幼圆"/>
                <a:ea typeface="幼圆"/>
              </a:rPr>
              <a:t>女：秋以为期  </a:t>
            </a:r>
            <a:br>
              <a:rPr sz="2400"/>
            </a:br>
            <a:r>
              <a:rPr b="1" lang="zh-CN" sz="2400" spc="-1" strike="noStrike">
                <a:solidFill>
                  <a:srgbClr val="666633"/>
                </a:solidFill>
                <a:latin typeface="幼圆"/>
                <a:ea typeface="幼圆"/>
              </a:rPr>
              <a:t>    载笑载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7339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3352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  </a:t>
            </a:r>
            <a:r>
              <a:rPr b="1" lang="zh-CN" sz="2400" spc="-1" strike="noStrike">
                <a:solidFill>
                  <a:srgbClr val="666633"/>
                </a:solidFill>
                <a:latin typeface="幼圆"/>
                <a:ea typeface="幼圆"/>
              </a:rPr>
              <a:t>士贰其行</a:t>
            </a:r>
            <a:br>
              <a:rPr sz="2400"/>
            </a:br>
            <a:r>
              <a:rPr b="1" lang="zh-CN" sz="2400" spc="-1" strike="noStrike">
                <a:solidFill>
                  <a:srgbClr val="666633"/>
                </a:solidFill>
                <a:latin typeface="幼圆"/>
                <a:ea typeface="幼圆"/>
              </a:rPr>
              <a:t>  至于暴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257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 </a:t>
            </a:r>
            <a:r>
              <a:rPr b="1" lang="zh-CN" sz="2400" spc="-1" strike="noStrike">
                <a:solidFill>
                  <a:srgbClr val="666633"/>
                </a:solidFill>
                <a:latin typeface="幼圆"/>
                <a:ea typeface="幼圆"/>
              </a:rPr>
              <a:t>亦已焉哉 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3352680"/>
            <a:ext cx="152280" cy="3124440"/>
          </a:xfrm>
          <a:custGeom>
            <a:avLst/>
            <a:gdLst>
              <a:gd name="textAreaLeft" fmla="*/ 97200 w 152280"/>
              <a:gd name="textAreaRight" fmla="*/ 152640 w 15228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33526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33"/>
                </a:solidFill>
                <a:latin typeface="Times New Roman"/>
              </a:rPr>
              <a:t>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666633"/>
                </a:solidFill>
                <a:latin typeface="幼圆"/>
                <a:ea typeface="幼圆"/>
              </a:rPr>
              <a:t>氓之蚩蚩</a:t>
            </a:r>
            <a:br>
              <a:rPr sz="2400"/>
            </a:br>
            <a:r>
              <a:rPr b="1" lang="zh-CN" sz="2400" spc="-1" strike="noStrike">
                <a:solidFill>
                  <a:srgbClr val="666633"/>
                </a:solidFill>
                <a:latin typeface="幼圆"/>
                <a:ea typeface="幼圆"/>
              </a:rPr>
              <a:t>    抱布贸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50292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   </a:t>
            </a:r>
            <a:r>
              <a:rPr b="1" lang="zh-CN" sz="2400" spc="-1" strike="noStrike">
                <a:solidFill>
                  <a:srgbClr val="666633"/>
                </a:solidFill>
                <a:latin typeface="幼圆"/>
                <a:ea typeface="幼圆"/>
              </a:rPr>
              <a:t>夙兴夜寐</a:t>
            </a:r>
            <a:br>
              <a:rPr sz="2400"/>
            </a:br>
            <a:r>
              <a:rPr b="1" lang="zh-CN" sz="2400" spc="-1" strike="noStrike">
                <a:solidFill>
                  <a:srgbClr val="666633"/>
                </a:solidFill>
                <a:latin typeface="幼圆"/>
                <a:ea typeface="幼圆"/>
              </a:rPr>
              <a:t>   靡有朝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3429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33"/>
                </a:solidFill>
                <a:latin typeface="幼圆"/>
                <a:ea typeface="幼圆"/>
              </a:rPr>
              <a:t>反是不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4343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（憨厚老实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6095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（纯真善良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（自私变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（辛苦蒙辱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4343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（冷酷无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5943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（毅然坚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102600" y="4648320"/>
            <a:ext cx="11552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（对比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38098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5562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676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33"/>
                </a:solidFill>
                <a:latin typeface="Times New Roman"/>
              </a:rPr>
              <a:t>情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Q_013" descr=""/>
          <p:cNvPicPr/>
          <p:nvPr/>
        </p:nvPicPr>
        <p:blipFill>
          <a:blip r:embed="rId1"/>
          <a:stretch/>
        </p:blipFill>
        <p:spPr>
          <a:xfrm>
            <a:off x="4038480" y="380880"/>
            <a:ext cx="1219320" cy="717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880" y="380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请思考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600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无衣》一诗表现出战士们怎样的情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438280"/>
            <a:ext cx="8458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你利用本诗重章反复的特点，解释加横线的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岂曰无衣？与子同袍。王于兴师，修我戈矛，与子同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岂曰无衣？与子同泽。王于兴师，修我矛戟，与子偕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岂曰无衣？与子同裳。王于兴师，修我甲兵，与子偕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4876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谈谈重章反复在诗歌表达上的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40384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4495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24680" y="3962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53280" y="3429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Z_013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PZ_013" descr=""/>
          <p:cNvPicPr/>
          <p:nvPr/>
        </p:nvPicPr>
        <p:blipFill>
          <a:blip r:embed="rId3"/>
          <a:stretch/>
        </p:blipFill>
        <p:spPr>
          <a:xfrm>
            <a:off x="5335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PZ_013" descr=""/>
          <p:cNvPicPr/>
          <p:nvPr/>
        </p:nvPicPr>
        <p:blipFill>
          <a:blip r:embed="rId4"/>
          <a:stretch/>
        </p:blipFill>
        <p:spPr>
          <a:xfrm>
            <a:off x="60948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Q_013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19320" cy="717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828800" y="10666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无衣》一诗表现出战士们怎样的情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4382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华文新魏"/>
              </a:rPr>
              <a:t>团结友爱，同仇敌忾，英勇抗敌的斗志和爱国精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257800"/>
            <a:ext cx="9144000" cy="1295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Q_013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219320" cy="717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28800" y="10666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9144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你利用本诗重章反复的特点，解释加点的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00200"/>
            <a:ext cx="91440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幼圆"/>
              </a:rPr>
              <a:t>岂曰无衣？与子同袍。王于兴师，修我戈矛，与子同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幼圆"/>
              </a:rPr>
              <a:t>岂曰无衣？与子同泽。王于兴师，修我矛戟，与子偕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幼圆"/>
              </a:rPr>
              <a:t>岂曰无衣？与子同裳。王于兴师，修我甲兵，与子偕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1880" y="2209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3200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3200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4267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2004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内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3200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一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0120" y="2209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仇恨敌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兵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5562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忠不必用兮，贤不必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—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屈原《涉江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5943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任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Q_013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19320" cy="71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828800" y="1295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谈谈重章反复在诗歌表达上的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24382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华文新魏"/>
              </a:rPr>
              <a:t>加强气势，增强诗的节奏感，层层深入地抒发情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380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请思考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Q_013" descr=""/>
          <p:cNvPicPr/>
          <p:nvPr/>
        </p:nvPicPr>
        <p:blipFill>
          <a:blip r:embed="rId1"/>
          <a:stretch/>
        </p:blipFill>
        <p:spPr>
          <a:xfrm>
            <a:off x="4038480" y="380880"/>
            <a:ext cx="1219320" cy="717840"/>
          </a:xfrm>
          <a:prstGeom prst="rect">
            <a:avLst/>
          </a:prstGeom>
          <a:ln w="0">
            <a:noFill/>
          </a:ln>
        </p:spPr>
      </p:pic>
      <p:pic>
        <p:nvPicPr>
          <p:cNvPr id="118" name="PZ_013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9" name="PZ_013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PZ_013" descr=""/>
          <p:cNvPicPr/>
          <p:nvPr/>
        </p:nvPicPr>
        <p:blipFill>
          <a:blip r:embed="rId4"/>
          <a:stretch/>
        </p:blipFill>
        <p:spPr>
          <a:xfrm>
            <a:off x="533520" y="56386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143000" y="16002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静女》写一对青年男女幽会的情景。你认为哪个地方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的描写最具有生活情趣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33526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男青年在等待中回忆姑娘曾送给他什么礼物？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什么男青年喜欢这些礼物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5410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将这首诗中的男青年与《氓》中的“氓”进行对比，简单概括男青年的性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24382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幼圆"/>
              </a:rPr>
              <a:t>“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幼圆"/>
              </a:rPr>
              <a:t>爱而不见，搔首踟蹰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44197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幼圆"/>
              </a:rPr>
              <a:t>“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幼圆"/>
              </a:rPr>
              <a:t>匪女之为美，美人之贻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幼圆"/>
              </a:rPr>
              <a:t>彤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8040" y="472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幼圆"/>
              </a:rPr>
              <a:t>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45720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5"/>
          </p:cNvPr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9T03:44:42Z</dcterms:created>
  <dc:creator>founder</dc:creator>
  <dc:description/>
  <dc:language>en-US</dc:language>
  <cp:lastModifiedBy>founder</cp:lastModifiedBy>
  <dcterms:modified xsi:type="dcterms:W3CDTF">2002-08-27T02:34:12Z</dcterms:modified>
  <cp:revision>10</cp:revision>
  <dc:subject/>
  <dc:title>PowerPoint 演示文稿</dc:title>
</cp:coreProperties>
</file>