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217-D29E-4698-A7F4-C1AB002B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6D7-93F9-4AB1-9E16-DF948C0C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9476-D83C-41AD-AC97-A533FB59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B0D-BEA7-4287-978F-E8984898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D741-6BA2-4620-8CDC-91B2B3AC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0BC3-FED4-4452-ACB3-9B1F9A2A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7A98-9115-4894-BB1A-4C27B95F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6DD9-A46F-412E-93C9-B69CCB3E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DFA2-9470-41E2-A25D-3BBD328C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63B5-B2B6-4972-B94B-55256D12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03BF-3B45-41E3-A13A-4895363F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DEB-C89A-4305-B974-92012A17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76B6-E35C-4B33-A215-F1B8D557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4693-880E-4D34-8A77-89BEF17C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FE7B-EEA4-4036-8D88-1B289890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EBCB-80C4-4590-B0BA-266A5279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76E2-F270-4A0E-BAA0-E148743B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0A5-6C15-4911-B264-21A19B2D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880-FF71-4439-AD00-42EDC86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73E-FD1D-4D47-AB09-4EE9B1F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C09-B7FA-46A8-A8B0-B9B0239B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9F1-C7B1-4D80-88C0-2CDBAFEC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EE5-A379-4AFA-955B-1DEBD46C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5D9-98A8-4AB8-AA97-75FEA56F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E632-8723-44FB-8E1C-BCAACCAD63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49E4-C315-4599-952F-146FBBBF9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2298;&#35799;&#32463;&#12299;&#31616;&#2017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752480"/>
            <a:ext cx="7543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袍。王于兴师，修我戈矛，与子同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泽。王于兴师，修我矛戟，与子偕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裳。王于兴师，修我甲兵，与子偕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6094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秦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无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5480" y="762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小雅</a:t>
            </a: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采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3623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昔我往矣，杨柳依依，今我来思，雨雪霏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行道迟迟，载渴载饥。我心伤悲，莫知我哀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3:10:32Z</dcterms:created>
  <dc:creator>founder</dc:creator>
  <dc:description/>
  <dc:language>en-US</dc:language>
  <cp:lastModifiedBy>founder</cp:lastModifiedBy>
  <dcterms:modified xsi:type="dcterms:W3CDTF">2002-08-26T04:45:31Z</dcterms:modified>
  <cp:revision>6</cp:revision>
  <dc:subject/>
  <dc:title>PowerPoint 演示文稿</dc:title>
</cp:coreProperties>
</file>