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A54C-EC77-43C2-8DBD-51E7BD4FC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D26B-FCC1-45DF-9548-968239D13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9CF8-9D14-4D58-B7D5-E67F0711B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B639-787E-4A8C-871A-5D47A1414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85C16-231F-4909-A8F7-FE2D6E929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A29A3-34AA-4936-9E2D-CC81F9565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26188-F098-4BA4-A325-8BE3DD471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6A543-D5A0-498C-93B0-1FF73A442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3C2E5-D46D-4759-8433-5B45EA96B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5FE0A-851E-4139-8BBB-C74EC3D6C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38E69-2917-4F85-83FF-995F6778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35B5-8FAE-4991-833E-8A0FE7ECC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64A7F-108C-4A57-9273-66F8E483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AC81B-2869-4C7C-A801-C071302E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72586-06B2-49B0-8583-B4F8525D8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D03A7-8127-4F6D-A1F1-F13CE1767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83CBF-2D6D-4C40-B9E1-463654811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7E9E-B086-4342-B450-19842D3CD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8F4C-7D84-48C4-8ACE-110FAF54E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5462-D2BB-4ED2-954F-20802EBBC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B786-5DD2-49EF-B451-DCB935B2E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AF2B-C93F-44E3-8D78-3C9DC4EF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5AF0-E674-460D-A177-00FD07FD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BDF9-95AB-4E42-AD5A-D5AA9E59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5781D-8946-4D4F-B551-7003A9FBFC3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4BE3D-7CD5-4D54-887D-B91F1024550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&#24605;&#24819;&#20869;&#23481;.ppt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52480" y="1828800"/>
            <a:ext cx="739152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996633"/>
                </a:solidFill>
                <a:latin typeface="Times New Roman"/>
              </a:rPr>
              <a:t>硕鼠硕鼠，无食我黍！三岁贯女，莫我肯顾，</a:t>
            </a:r>
            <a:br>
              <a:rPr sz="2400"/>
            </a:br>
            <a:r>
              <a:rPr b="1" lang="zh-CN" sz="2400" spc="-1" strike="noStrike">
                <a:solidFill>
                  <a:srgbClr val="996633"/>
                </a:solidFill>
                <a:latin typeface="Times New Roman"/>
              </a:rPr>
              <a:t>誓将去女，适彼乐土。乐土乐土，爰得我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996633"/>
                </a:solidFill>
                <a:latin typeface="Times New Roman"/>
              </a:rPr>
              <a:t>硕鼠硕鼠，无食我麦！三岁贯女，莫我肯德，</a:t>
            </a:r>
            <a:br>
              <a:rPr sz="2400"/>
            </a:br>
            <a:r>
              <a:rPr b="1" lang="zh-CN" sz="2400" spc="-1" strike="noStrike">
                <a:solidFill>
                  <a:srgbClr val="996633"/>
                </a:solidFill>
                <a:latin typeface="Times New Roman"/>
              </a:rPr>
              <a:t>誓将去女，适彼乐国。乐国乐国，爰得我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996633"/>
                </a:solidFill>
                <a:latin typeface="Times New Roman"/>
              </a:rPr>
              <a:t>硕鼠硕鼠，无食我苗！三岁贯女，莫我肯劳，</a:t>
            </a:r>
            <a:br>
              <a:rPr sz="2400"/>
            </a:br>
            <a:r>
              <a:rPr b="1" lang="zh-CN" sz="2400" spc="-1" strike="noStrike">
                <a:solidFill>
                  <a:srgbClr val="996633"/>
                </a:solidFill>
                <a:latin typeface="Times New Roman"/>
              </a:rPr>
              <a:t>誓将去女，适彼乐郊。乐郊乐郊，谁之永号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05320" y="68580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33"/>
                </a:solidFill>
                <a:latin typeface="Times New Roman"/>
              </a:rPr>
              <a:t>魏风</a:t>
            </a:r>
            <a:r>
              <a:rPr b="1" lang="zh-CN" sz="4000" spc="-1" strike="noStrike">
                <a:solidFill>
                  <a:srgbClr val="996633"/>
                </a:solidFill>
                <a:latin typeface="Times New Roman"/>
              </a:rPr>
              <a:t>·</a:t>
            </a:r>
            <a:r>
              <a:rPr b="1" lang="zh-CN" sz="4000" spc="-1" strike="noStrike">
                <a:solidFill>
                  <a:srgbClr val="996633"/>
                </a:solidFill>
                <a:latin typeface="Times New Roman"/>
              </a:rPr>
              <a:t>硕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1"/>
          </p:cNvPr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5T03:20:28Z</dcterms:created>
  <dc:creator>founder</dc:creator>
  <dc:description/>
  <dc:language>en-US</dc:language>
  <cp:lastModifiedBy>founder</cp:lastModifiedBy>
  <dcterms:modified xsi:type="dcterms:W3CDTF">2002-07-15T08:11:53Z</dcterms:modified>
  <cp:revision>4</cp:revision>
  <dc:subject/>
  <dc:title>PowerPoint 演示文稿</dc:title>
</cp:coreProperties>
</file>