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685-F459-47CE-9786-FF570C96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768C-188E-4119-81CF-8E3D43F4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93A-8867-4764-9DE5-8FDD94B8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348-915F-4457-B9BA-C8E70DF1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29E4-EBAB-44EB-B5A3-7B86FE9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28C-648D-42D9-B3E3-2963FB8B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EF94-F6D2-4A67-A2B2-A6658CE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A425-15C9-43D9-997B-8F14B4FA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4CC7-9F70-4194-A151-EC01062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0895-A1BB-4C55-8FD5-3BC3B06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D915-96C5-46FA-8670-87F2101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559-053A-4C48-8A17-285D266E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5AA2-744A-4A2C-983C-46B3EBC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E5E4-F11A-4B7C-A99E-E74B188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76EB-05D0-46CA-B22B-EBCE4541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F20A-D67E-4EAB-8E68-8B8DB1E5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BCF7-1ADC-4EF0-95DF-BB6FF809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C48-7FAE-4EE2-8BAB-87462B9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B88-E211-476F-AA5B-D4286A35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4CD-EBAB-473B-BB69-B5F96B8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A8A-9CD8-44AD-8434-2EEBBB7B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F36-C2E6-44C3-9A47-33298E3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CDEC-CF43-493B-981F-DBBAC1A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6B7-2DA4-4B1F-9FA4-45F0022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B54E-8221-461C-84DB-C5475E2AD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0D86-A6C8-424E-9857-209A043B9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143000" y="4191120"/>
            <a:ext cx="7467480" cy="1143000"/>
            <a:chOff x="1143000" y="4191120"/>
            <a:chExt cx="7467480" cy="1143000"/>
          </a:xfrm>
        </p:grpSpPr>
        <p:sp>
          <p:nvSpPr>
            <p:cNvPr id="90" name=""/>
            <p:cNvSpPr/>
            <p:nvPr/>
          </p:nvSpPr>
          <p:spPr>
            <a:xfrm>
              <a:off x="1143000" y="4191120"/>
              <a:ext cx="7467480" cy="1143000"/>
            </a:xfrm>
            <a:prstGeom prst="rect">
              <a:avLst/>
            </a:prstGeom>
            <a:solidFill>
              <a:srgbClr val="cbb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72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描写奴隶们的伐木生活，表达他们对不劳而获的奴隶主的不满与揭露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33920" y="685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伐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0574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坎坎伐檀兮，置之河之干兮，河水清且涟猗。不稼不穑，胡取禾三百廛兮？不狩不猎，胡瞻尔庭有悬貆兮？彼君子兮，不素餐兮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1828800"/>
            <a:ext cx="7391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黍！三岁贯女，莫我肯顾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土。乐土乐土，爰得我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麦！三岁贯女，莫我肯德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国。乐国乐国，爰得我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苗！三岁贯女，莫我肯劳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郊。乐郊乐郊，谁之永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685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硕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44:50Z</dcterms:created>
  <dc:creator>founder</dc:creator>
  <dc:description/>
  <dc:language>en-US</dc:language>
  <cp:lastModifiedBy>founder</cp:lastModifiedBy>
  <dcterms:modified xsi:type="dcterms:W3CDTF">2002-08-28T05:14:27Z</dcterms:modified>
  <cp:revision>7</cp:revision>
  <dc:subject/>
  <dc:title>PowerPoint 演示文稿</dc:title>
</cp:coreProperties>
</file>