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D4B-370D-4975-A735-6FFE0E44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A46-313D-4428-9A80-CED84E31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AF8-FDE5-4945-83EF-C1A7B5DC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DA7-FE16-4B70-B09B-680B0C08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455F-D565-4E33-B658-F3D9A18F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1064-A661-47C4-BE9F-29A4BEE8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0CD6-9611-4BD4-A45B-33226EE6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2C9E-6FFA-429D-B80B-146E3ECE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80ED-05E4-4E92-8363-3F482D57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FCCB-84E2-4674-A291-DAA04D86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A382-5E15-4DB5-AAAC-282274DC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A12-0A16-4917-B85B-4A491DC1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3480-E440-4D46-917F-FE17D60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8FCE-64FF-48AA-AB66-506E4578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7E41-8813-474D-99AD-F7AAB691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6B4B-A12F-4F47-BE56-32048738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E97B-9492-4700-8959-0023F01E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EBB-5ADB-42AD-92FB-3A4436E6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5E6-2364-4B29-B797-659E0D18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45F-1B90-4173-BAB2-4BB2714C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F2F-00EB-47BC-811F-68517377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50C-6ACC-4BB8-BC56-AA59AB33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5BB-88B5-440C-95D6-60D65D6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58C-94FD-4FAC-8B6B-DDD19E9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A1C7-870A-4AF7-B918-42FA89C243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95B9-3BEB-4C9C-9ED3-15D6DDFF63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8745;&#22899;&#19968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2514600"/>
            <a:ext cx="685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关关雎鸠，在河之洲，窈窕淑女，君子好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参差荇菜，左右流之。窈窕淑女，寤寐求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求之不得，寤寐思服。悠哉悠哉，辗转反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68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小 雅</a:t>
            </a: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关  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8381880" y="6324480"/>
            <a:ext cx="152640" cy="152640"/>
          </a:xfrm>
          <a:prstGeom prst="diamond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3:57:48Z</dcterms:created>
  <dc:creator>founder</dc:creator>
  <dc:description/>
  <dc:language>en-US</dc:language>
  <cp:lastModifiedBy>founder</cp:lastModifiedBy>
  <dcterms:modified xsi:type="dcterms:W3CDTF">2002-08-25T07:09:25Z</dcterms:modified>
  <cp:revision>3</cp:revision>
  <dc:subject/>
  <dc:title>PowerPoint 演示文稿</dc:title>
</cp:coreProperties>
</file>