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1D0-CB3F-4EBE-B6FA-80775846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955-983D-4209-BB69-C06125C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7BB-0769-4970-9DC9-032BF24D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041-FA30-403F-A075-0B9BBF5F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6DB1-1523-4DEB-83A6-1B14B0F0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BA9-C2ED-40A9-B9F7-96F8729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F1AA-4784-42E8-B870-A2617EFD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62A9-45D2-4BAA-A392-CAC3222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E20C-26F2-41F6-B24A-89FBB783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A002-DE50-499B-8B3D-E070A8A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9CF9-CE7C-4865-873C-3E4EE02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5D3-9B05-40C4-AFA0-59AEDC4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F98B-660D-4188-9C71-2869D7A3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2C5F-4CF7-4B70-AD9E-2977023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38D-D54C-4B90-80C3-016C5FB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E6E4-28E5-45CD-8E20-57C89546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77EF-6D50-481F-AB3B-B38B99F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50F-FCFD-4417-BCD3-94E6C7F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48B-DBD2-4EFC-8065-738BB50A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29E-0D3A-4AA0-BAEF-AE7CA17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6BA-0F44-44F1-A4BE-59E1F89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B95-FFB8-48F5-AAC7-173041A5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C7D-F720-4B65-88DD-79E5AA4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CD9-18B6-4555-8CAA-2A80BE9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414-4EF5-41CC-BA52-85FD39DDEC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F1DD-ADB3-474F-99E9-63AE805897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氓之蚩蚩，抱布贸丝。匪来贸丝，来即我谋。送子涉淇，至于顿丘。匪我愆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</a:t>
            </a: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Times New Roman"/>
              </a:rPr>
              <a:t>垝</a:t>
            </a: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垣 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唏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4:38:39Z</dcterms:created>
  <dc:creator>founder</dc:creator>
  <dc:description/>
  <dc:language>en-US</dc:language>
  <cp:lastModifiedBy>founder</cp:lastModifiedBy>
  <dcterms:modified xsi:type="dcterms:W3CDTF">2002-07-19T03:58:59Z</dcterms:modified>
  <cp:revision>5</cp:revision>
  <dc:subject/>
  <dc:title>PowerPoint 演示文稿</dc:title>
</cp:coreProperties>
</file>