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487C-2C12-41D6-9418-9753CC7E5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4B3A-5C34-42A3-B554-1AFB6736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F723-6D50-4EA1-ABE7-4AB8653E3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9A3A-C68B-4E67-9AA5-2C27F6704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148D-0C1A-4E3F-B744-7FD2892AF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16E8-CFDB-4EDE-B0B7-D7155E59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C138-C4A5-4F3C-9810-EF025288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A94F-5A1A-4D69-8717-6ED4B3F9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24C7-C41E-4B48-83A2-E34177DD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76E5-17E6-44A8-A4D0-315B7635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EC38-4D40-4043-B8F2-661BBC21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A130-126A-494C-B66A-745257A0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95E1-7630-4675-8D55-A7FD305F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8E72-5544-4627-BB21-E80B8BB3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5DB5-11D7-4A3B-8784-BE03C949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AEFF-3BD2-4545-82DB-9B37BC374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28D6-31E4-4F9C-9EA6-036AD81FA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D81E-60FC-4EA9-901C-BD0BAAE9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E69C-F927-45CC-92B4-B10E27CF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7FEF-223D-4B77-AC68-1A659EC1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7973-1C1F-470F-8853-58231A5D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41D5-838F-4311-9284-6EF770B6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9672-0A8D-43D2-9C31-D177656E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CA2B-FC07-4131-B83C-717CBC77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4DB9-A8B9-4DC1-A55F-B136D5AF34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1A2A-4746-4E73-8FAD-AFE53A8B60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2298;&#35799;&#32463;&#12299;&#31616;&#20171;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676520" y="2514600"/>
            <a:ext cx="6858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33"/>
                </a:solidFill>
                <a:latin typeface="Times New Roman"/>
                <a:ea typeface="幼圆"/>
              </a:rPr>
              <a:t>关关雎鸠，在河之洲，窈窕淑女，君子好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996633"/>
                </a:solidFill>
                <a:latin typeface="Times New Roman"/>
                <a:ea typeface="幼圆"/>
              </a:rPr>
              <a:t>参差荇菜，左右流之。窈窕淑女，寤寐求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996633"/>
                </a:solidFill>
                <a:latin typeface="Times New Roman"/>
                <a:ea typeface="幼圆"/>
              </a:rPr>
              <a:t>求之不得，寤寐思服。悠哉悠哉，辗转反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6858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幼圆"/>
                <a:ea typeface="幼圆"/>
              </a:rPr>
              <a:t>小 雅</a:t>
            </a:r>
            <a:r>
              <a:rPr b="1" lang="zh-CN" sz="4000" spc="-1" strike="noStrike">
                <a:solidFill>
                  <a:srgbClr val="996633"/>
                </a:solidFill>
                <a:latin typeface="幼圆"/>
                <a:ea typeface="幼圆"/>
              </a:rPr>
              <a:t>·</a:t>
            </a:r>
            <a:r>
              <a:rPr b="1" lang="zh-CN" sz="4000" spc="-1" strike="noStrike">
                <a:solidFill>
                  <a:srgbClr val="996633"/>
                </a:solidFill>
                <a:latin typeface="幼圆"/>
                <a:ea typeface="幼圆"/>
              </a:rPr>
              <a:t>关  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66680" y="2590920"/>
            <a:ext cx="7391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  <a:ea typeface="幼圆"/>
              </a:rPr>
              <a:t>静女其姝，俟我于城隅。爱而不见，搔首踟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  <a:ea typeface="幼圆"/>
              </a:rPr>
              <a:t>静女其娈，贻我彤管。彤管有炜，说怿女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  <a:ea typeface="幼圆"/>
              </a:rPr>
              <a:t>自牧归荑，洵美且异。匪女之为美，美人之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33920" y="8380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幼圆"/>
              </a:rPr>
              <a:t>邶风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幼圆"/>
              </a:rPr>
              <a:t>·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幼圆"/>
              </a:rPr>
              <a:t>静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66680" y="1066680"/>
            <a:ext cx="7848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幼圆"/>
                <a:ea typeface="幼圆"/>
              </a:rPr>
              <a:t>抱布贸丝。匪来贸丝，来即我谋。送子涉淇，至于顿丘。匪我前期，子无良媒。将子无怒，秋以为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幼圆"/>
                <a:ea typeface="幼圆"/>
              </a:rPr>
              <a:t>乘彼跪垣，以望复关。不见复关，涕泣涟涟。既见复关，载笑载言。尔卜尔筮，体无疚言。以尔车来，以我贿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幼圆"/>
                <a:ea typeface="幼圆"/>
              </a:rPr>
              <a:t>桑之未落，其叶沃若。于嗟鸠兮，无食桑葚！于嗟女兮，无于士耽。士之耽兮，犹可说也。女之耽兮，不可脱也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幼圆"/>
                <a:ea typeface="幼圆"/>
              </a:rPr>
              <a:t>桑之落矣，其黄而陨。自我徂尔，三岁食贫。淇水汤汤，渐车帷裳。女之不爽，士贰其行。士也罔极，三二其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幼圆"/>
                <a:ea typeface="幼圆"/>
              </a:rPr>
              <a:t>三岁为妇，靡室劳矣。夙兴夜寐，靡有朝矣。言既遂矣，至于暴矣。兄弟不知，西其笑矣。静言思之，躬自悼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幼圆"/>
                <a:ea typeface="幼圆"/>
              </a:rPr>
              <a:t>及尔偕老，老使我怨。淇则有岸，隰则有畔。总角之宴，言笑晏晏。信誓旦旦，不思其反。反是不思，亦已焉哉 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57600" y="30492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幼圆"/>
              </a:rPr>
              <a:t>卫风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幼圆"/>
              </a:rPr>
              <a:t>·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幼圆"/>
              </a:rPr>
              <a:t>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1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5T07:35:57Z</dcterms:created>
  <dc:creator>founder</dc:creator>
  <dc:description/>
  <dc:language>en-US</dc:language>
  <cp:lastModifiedBy>founder</cp:lastModifiedBy>
  <dcterms:modified xsi:type="dcterms:W3CDTF">2002-08-25T10:02:16Z</dcterms:modified>
  <cp:revision>7</cp:revision>
  <dc:subject/>
  <dc:title>PowerPoint 演示文稿</dc:title>
</cp:coreProperties>
</file>