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579-23E9-478C-B2D4-365D19AD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410-F149-432F-83F1-8F107C4C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C67-E6F3-4E8B-9E51-C8E4831D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04A-77BC-46EF-9468-F22CB67B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4669-45C8-4F78-9F76-D813658B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36E6-DA64-442A-9F38-7B02AFB8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2633-E113-4864-A930-C6311CD5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3C4D-61E9-449A-A258-83AD1897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E101-A37E-4D37-B842-55D6D76A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7BC0-BB23-462B-8066-D03A1914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BFC0-B01A-4A31-A6D3-87A2790A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B18-DD00-4C03-AD4C-4D46B949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88A7-EC8D-460A-9745-936FD721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EC2E-F005-459E-A787-A8E10EB1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D835-C7EE-44DB-94B9-4029A194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B2E1-B066-4945-A597-B5D9818D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0182-76A9-4852-BE6F-A347444F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F5F-94EE-495B-9262-C18FED47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09E-8752-46DA-A8AB-CBDD6AE2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602-9004-42BB-96DD-D05FE118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BC46-F362-4D83-BCA4-AD89DFE8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898-8FF5-4017-B7EA-92146F25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D0CE-9D12-4304-9576-17D6BFCB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3EC-CA38-40DF-853A-6B52C6FA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9420-3334-4AB0-A654-215D6672F8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898B-7E8E-42AB-B575-7BF863CBEB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12298;&#27667;&#12299;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24605;&#24819;&#20869;&#2348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2590920"/>
            <a:ext cx="7391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静女其姝，俟我于城隅。爱而不见，搔首踟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静女其娈，贻我彤管。彤管有炜，说怿女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自牧归荑，洵美且异。匪女之为美，美人之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8380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邶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静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8458200" y="6324480"/>
            <a:ext cx="228600" cy="228600"/>
          </a:xfrm>
          <a:prstGeom prst="diamond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106668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氓之蚩蚩，抱布贸丝。匪来贸丝，来即我谋。送子涉淇，至于顿丘。匪我前期，子无良媒。将子无怒，秋以为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乘彼跪垣，以望复关。不见复关，涕泣涟涟。既见复关，载笑载言。尔卜尔筮，体无疚言。以尔车来，以我贿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桑之未落，其叶沃若。于嗟鸠兮，无食桑葚！于嗟女兮，无于士耽。士之耽兮，犹可说也。女之耽兮，不可脱也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桑之落矣，其黄而陨。自我徂尔，三岁食贫。淇水汤汤，渐车帷裳。女之不爽，士贰其行。士也罔极，三二其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三岁为妇，靡室劳矣。夙兴夜寐，靡有朝矣。言既遂矣，至于暴矣。兄弟不知，西其笑矣。静言思之，躬自悼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及尔偕老，老使我怨。淇则有岸，隰则有畔。总角之宴，言笑晏晏。信誓旦旦，不思其反。反是不思，亦已焉哉 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049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卫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7:50:32Z</dcterms:created>
  <dc:creator>founder</dc:creator>
  <dc:description/>
  <dc:language>en-US</dc:language>
  <cp:lastModifiedBy>founder</cp:lastModifiedBy>
  <dcterms:modified xsi:type="dcterms:W3CDTF">2002-08-26T04:45:49Z</dcterms:modified>
  <cp:revision>3</cp:revision>
  <dc:subject/>
  <dc:title>PowerPoint 演示文稿</dc:title>
</cp:coreProperties>
</file>